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691A-0887-49E4-A668-10D9CF40C3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D6CF-1E01-46B0-9A74-7E5762F68D8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2C98-B9BC-4406-987F-2490130072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CFBD-530E-4DE9-A7EB-E3EC6B47E4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01F7-C30B-4596-805C-5DBC5500E7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DBE4-8DEB-4DC7-8C1C-03E2B1A23B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E16E-A399-4748-9B6B-8637D60C22B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647B-F55B-4E1B-887E-AFAB3D06F84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7869-B1C2-498D-8EFB-A39AA03117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5AF6-BED3-44AA-94D1-4F0CBA1E12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F817-4C4E-47D8-B3AF-1BB4205886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D5E0-CDC3-4377-8C48-A0C98B5BD9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D705-3392-40C4-BEF2-821145AC069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E571-4A68-4C45-B6FF-D566012DD6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7BA5-B750-40AC-882E-DDA4F562878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2CFA-8EDB-43BD-8E0E-2CA873EAA7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9616-19FC-4840-897D-1A81830CA3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A05D-B7F3-47B3-AA7D-042FD8C3D93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D283-8537-403B-B7E7-01B7A2A4CDB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7CBC-F6B6-4D74-9FF3-DAC2CE49CB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35D2-105B-4C42-8E90-B4C14FC4CD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6FAD-110B-4452-BF8F-6B90791D8DE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92F1-53EA-4BE4-855C-804B2C4F1B5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EBEC-8AD5-485A-BDAA-EB72A4F302A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A0B0-3E76-4AF4-B98C-03BACE0131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3BA0-D1A5-4078-9812-FFDE894883D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0E7E-4934-40E3-9E64-A661E9A326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9236-0B48-4E5E-86C4-AEC08AA48F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20A2-3A45-42A8-93BC-3324237BDB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E637-CC2E-4BA6-83DA-4313D6741C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4F047-075E-406E-BC40-7EA801B4054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5BFF-AD02-4826-8947-2A3121A17D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5A31-18F3-4793-9973-57D9F894A75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85BC-5B55-4552-ABCE-EA8F4E25046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8963-B3B6-4844-9AA2-EBC1373F39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B817-F097-4A1F-BAB2-4F5A066EB54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0EC9-DA82-49AF-BAA6-8FB295A3A4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50BE-4FAD-440F-8331-47EDC04E95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EBCC-ED07-4A96-AED4-5F9B31817AF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0F1-9CA9-48FF-9FAC-DDD8773F1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1BB-C377-49DF-B11A-5528B38C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5F560-5686-488B-95FC-8494AB892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6019D-A40C-49DD-B51A-451DFFF3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D9441-D280-4787-BDB6-7A5738EE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ECB8B4-B713-4F3F-97D6-624FB7F3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70D535-7977-4632-A15C-41984F8D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9C329-0ACF-488E-9AA2-D7BDF7CA6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DCE9C-35F6-4F28-A7C7-C45ED228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210B9-DA05-48EC-BDBC-94837E73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377BE-8495-4362-A592-2CDD603F0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0D4FAF-4FB0-42B6-84BF-3BBD0935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DB3-4452-463D-B0D3-DCC2DE74C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DB241-BA24-4C7A-93C3-AAE7197B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A5CA6F-6512-4F0F-BD0C-525434BE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5DC5AB-4300-4D60-91A6-56FD05BD8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8ADC48-5593-4958-896E-B0FE132B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8F90A-1148-4C0F-B07A-824B93C0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FE151-06B2-4AAB-9E2E-D0BCE671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15457-29AF-47A2-958F-36BE60F9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ECFD2-E51D-45FA-8A5F-55027B84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1E6636-9DB9-48D7-9EBF-2F137C95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37F12-B721-4E96-A0E0-E74554E0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72A1-6D2E-4FCF-85D4-8804C669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028D5-8BB6-42F2-B2AB-0455A0022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2E0C3-DE94-44E0-AD08-18873F0B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18E7D-69A5-4CDC-AACC-28838D72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A15BF-D048-47F6-AFCB-179484FC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F95F4-9DBA-47AE-83D2-78EA0C28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E592F-3741-4B52-BDA7-298E6F25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1F419-33BB-4EB9-9020-DA00E660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4C21F-BCCC-40F8-BCE7-C8EB500A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BA45F-F7DA-45BB-AEFA-57DD030F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CB833-93DF-4F19-B2CE-7D726A5B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F9C3E5-3C7A-4DDA-94BF-7B160954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0CBAE-C4D4-4698-B530-9797521F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7CBEF2-9966-4C1D-9C0F-FE9CFB58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F3319-3110-45BC-A8B2-C72E5BE7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BC674-D6F4-4857-87F6-05C58C3A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BC75C-5DE5-41D4-B81E-DBC8DBA5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118F2-D073-47F9-ADD6-542E0DB3C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A2FE2C-EE28-4AA6-A92D-EF3AF81D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278B5-32D4-4C80-AB5E-D3464ECC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B5972-D1EC-4A25-9649-8159DC8E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DB6338-DA0F-410D-9E12-9D4D7490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8C0A7-E5A3-4ED0-AAE7-06D5771D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69DCA-CED4-49E8-B556-2C50EE52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BFF15-B392-448B-9841-A5E7EE44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D8AB0-36B8-42D2-9766-0F98CD02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BE9958-2ADF-4323-AEB8-F92E2FA72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2D3F5-6F50-4319-821F-58AB174E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5518C-5C61-4990-BD31-8D30A1C0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406BA-E94D-4006-B616-4D33202B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EFA337-9E10-47DC-8130-DE3617E3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84049-4B04-4F07-B63A-C3671585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9C99F-D062-40E0-BDAA-A1242154F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42D-D85A-41FB-B531-2AEA4C41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36680-B6B7-46F2-9286-B3559C4F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2E9FE-2897-4F58-BB77-CD35A7C5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5BBFC-679B-459A-87D8-EFEDA48E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7DF8F2-1996-491F-B04A-5F3A1109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4519B-0EBB-49A6-AEA1-2AC7F5A7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4C3D3-DE34-45AC-9C38-749B8BF2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789B3-7C4E-4BC2-8C0A-394D43D5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B3176-9141-46A5-9BFF-D3064976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9EEFE-1E96-4F87-8E51-765D2668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C6402-2DA7-473F-AB61-1FD842D7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A9B1-0B7B-4ADA-9BF8-B330E6DD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18AA3-E4E4-4B79-B300-BE433BA0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EB4EB-6120-4BBE-A004-C0FE7664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4C6BC-346D-4A0D-BD9D-10BC0F91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644D9-ABF5-4C7E-85AC-7A1662C1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C0B5-5C07-4191-BA39-638D4DEA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C8ACD-F9D2-4509-952A-81004F7D2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A6760-6C49-4B72-9967-DA68B0758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215E4-3887-4FE5-8BBE-FAE09684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A4117-23C1-41DC-9224-114D5E62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40636-B023-46CE-A09F-ECFF5F35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B87C-86D9-457E-B36F-71E29C78A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EF9463-F091-4E42-986B-16C6FD50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8A9F9-56CE-4F83-ACDC-EE82CA53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98C9D-61A9-4F17-9393-C12A01AE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97E8F-C5CA-4BF3-B1F2-B7A19016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AA312-57ED-4DCA-89E0-3650028D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2E482-C12A-407D-AE75-440C605F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A614E-197B-4986-9762-36F1EE92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F2C5C-039D-40DA-8116-93393E87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8DE12-359E-4C0A-B55B-41AEEC8A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B572C-FD9F-4567-90BC-3E4E5AF8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5015-12C3-4EFB-97A7-D039A730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9B6C7-5F0C-4585-BC23-2D2AA8EE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308C6-B1C1-4F80-9666-2414F5EA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396DA-B715-4AA5-A729-FE716B00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DBB55-93B4-4B30-BEBA-CCF6D4F9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4BA98-BBA3-449E-AB6D-33C3E82E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AD5D0-6E75-47C9-AE98-46107031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D0C59-5C9B-4525-BA86-8D523C9F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A1EA0-AA41-4B02-9851-C73A4A80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44C93-754C-4E97-A4B8-0A4D97E4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33976-F2B2-4C5F-B340-5D79BDB0F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4173-CCB6-49B8-BC94-3F827F0A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B8472-EDA0-4AA2-AB65-B2598319F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CCE3F-BE05-464F-9244-32664A1E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6C33E-A537-4C00-8691-05BC3D68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EC0F4-435F-4726-8FB7-3182F378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59105-14BF-42A7-8DEF-54EB96F9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2126A-A6F0-4323-8D87-4D4FCA69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67973-630C-474A-9201-8C2460DB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1240F-EE33-4413-9155-DC284803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6C247-64FC-4D4A-A854-A1BA11FCE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5F391-6D20-424D-80D4-54489A93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BED-12DE-4102-89C4-24D5C065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84646-C115-47DC-9F2E-28314A81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F3348-0D8F-4687-9012-FF860935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20905-2E6A-44CC-AE48-B55B6D810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49017-AC15-43E9-B271-DAF8BE68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9E5FE-C96C-4378-91BB-43411B4A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14D59-71E5-4DE1-9E7B-50AF30FA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B01DC-494F-4E34-A554-05ABADE3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EFB64-7CAA-4BFC-AAB3-4393BE7B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A2DB5-5F6D-4C8E-B76E-215C4B1D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A4BAE-723B-4385-AF49-20AC20C1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30A3-50B1-430E-BD24-C3141065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5CCED-6740-4212-903C-821373BE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CEF39-5D26-4634-99EA-AB014B69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4F526-63CF-414F-82FB-7AABA14D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C0403-1FFC-433A-9715-E914E46D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F9072-8B52-465F-9CCF-D176070B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6E46C-4890-44F5-90CC-11F9D1314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65798-0035-43A9-976C-EB9EA5C0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69632-175F-4338-BD5A-B2CA76A0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E6329-ECDB-4448-97F1-6A0E9C6B7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79765-2008-48F8-B697-A3705791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DE1-A9FB-4425-97F8-054248C7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82ACA-2B5C-4954-A408-27780950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D709D-F953-498C-935D-84F00692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07092-D2C7-4B70-A215-AFD6A56D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23D61-BE10-4C4C-A8E0-E5DD08F5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AFF5F0-EACA-4AE8-AF9B-4F520E7D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25805-C239-42AD-A723-75F7C3D8C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566A2-3652-4979-8F38-FF31E207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E580F-88C7-4E80-B1CA-51FA9C12F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D4113-B761-4CF6-903F-053566A0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3AC6CC-1463-4BD3-81F5-5A9667D7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3E3D-A449-4BF8-854D-1335B47433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01D6-7D2E-4900-843D-72FB39545D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AC3D-015C-45AF-AD5A-DA2334F6CC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4FF0-81F6-48E3-B325-9471E857A21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2AC7-8F88-472F-9D32-E229867A72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679D-77FD-484D-87FE-E4E8447E66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D738-F2E5-41E4-98BE-886CE8B41F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E295-60F7-4E6F-A772-66BA664E3E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F81E-E4C4-4734-88F1-0A0717293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93CE-2953-4825-ABB3-8CAD67897A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B930-1B3B-4B41-A0CD-529F8EBD5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F8F3-D107-443E-A9E2-348984EBF8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13BE-63E5-40A4-9E1A-EFCB6A4E27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1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едение специализированного учета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бучающихся с ограниченным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озможностями здоровья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и инвалидностью на этапе их обучения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в профессиональных образовательных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организациях Самарской област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Методист ЦПО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Семенова Наталья Григорьевна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октября 2020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2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12D7-4AC5-4963-8436-3397374CCB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0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учающийс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 ограниченными возможностями здоровь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е лицо, имеющее недостатки в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ом и (или) психологическом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и, подтвержденные психолого-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о-педагогической комиссией и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ятствующие получению образовани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создания специальных условий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тверждается заключением ПМПК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1" name="Рисунок 3" descr=""/>
          <p:cNvPicPr/>
          <p:nvPr/>
        </p:nvPicPr>
        <p:blipFill>
          <a:blip r:embed="rId1"/>
          <a:stretch/>
        </p:blipFill>
        <p:spPr>
          <a:xfrm>
            <a:off x="277920" y="476280"/>
            <a:ext cx="347796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9D9F-BC3D-4EF5-9B16-8C9AC88833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3" name="AutoShape 5"/>
          <p:cNvSpPr/>
          <p:nvPr/>
        </p:nvSpPr>
        <p:spPr>
          <a:xfrm>
            <a:off x="190440" y="423720"/>
            <a:ext cx="89535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терминологии ФЗ-273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бразовательные программы для обучающихся с ОВЗ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тносятся к адаптированным образовательным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программам (АОП)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В соответствии с п. 28 ст. 2 ФЗ-273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АОП - это образовательная программа, адаптированная для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бучения лиц с ограниченными возможностями здоровья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с учетом особенностей их психофизического развития,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индивидуальных возможностей и при необходимост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беспечивающая коррекцию нарушений развития 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социальную адаптацию указанных лиц.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4" name="Рисунок 3" descr=""/>
          <p:cNvPicPr/>
          <p:nvPr/>
        </p:nvPicPr>
        <p:blipFill>
          <a:blip r:embed="rId1"/>
          <a:stretch/>
        </p:blipFill>
        <p:spPr>
          <a:xfrm>
            <a:off x="190440" y="130320"/>
            <a:ext cx="347832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F719-BCDE-48D7-8923-40E862DE9CD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тья 79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рганизация получени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обучающимис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граниченными возможностями здоровья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37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DAAF-D378-4FCB-B651-71DD1521DAB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9" name="AutoShape 5"/>
          <p:cNvSpPr/>
          <p:nvPr/>
        </p:nvSpPr>
        <p:spPr>
          <a:xfrm>
            <a:off x="14616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40" name="Рисунок 3" descr=""/>
          <p:cNvPicPr/>
          <p:nvPr/>
        </p:nvPicPr>
        <p:blipFill>
          <a:blip r:embed="rId1"/>
          <a:stretch/>
        </p:blipFill>
        <p:spPr>
          <a:xfrm>
            <a:off x="277920" y="476280"/>
            <a:ext cx="3477960" cy="1217520"/>
          </a:xfrm>
          <a:prstGeom prst="rect">
            <a:avLst/>
          </a:prstGeom>
          <a:ln w="0">
            <a:noFill/>
          </a:ln>
        </p:spPr>
      </p:pic>
      <p:pic>
        <p:nvPicPr>
          <p:cNvPr id="541" name="Группа 22" descr=""/>
          <p:cNvPicPr/>
          <p:nvPr/>
        </p:nvPicPr>
        <p:blipFill>
          <a:blip r:embed="rId2"/>
          <a:stretch/>
        </p:blipFill>
        <p:spPr>
          <a:xfrm>
            <a:off x="1785960" y="1481040"/>
            <a:ext cx="3030480" cy="3030480"/>
          </a:xfrm>
          <a:prstGeom prst="rect">
            <a:avLst/>
          </a:prstGeom>
          <a:ln w="0">
            <a:noFill/>
          </a:ln>
        </p:spPr>
      </p:pic>
      <p:pic>
        <p:nvPicPr>
          <p:cNvPr id="542" name="Группа 10" descr=""/>
          <p:cNvPicPr/>
          <p:nvPr/>
        </p:nvPicPr>
        <p:blipFill>
          <a:blip r:embed="rId3"/>
          <a:stretch/>
        </p:blipFill>
        <p:spPr>
          <a:xfrm>
            <a:off x="4400640" y="1530360"/>
            <a:ext cx="3262320" cy="3029040"/>
          </a:xfrm>
          <a:prstGeom prst="rect">
            <a:avLst/>
          </a:prstGeom>
          <a:ln w="0">
            <a:noFill/>
          </a:ln>
        </p:spPr>
      </p:pic>
      <p:pic>
        <p:nvPicPr>
          <p:cNvPr id="543" name="Группа 13" descr=""/>
          <p:cNvPicPr/>
          <p:nvPr/>
        </p:nvPicPr>
        <p:blipFill>
          <a:blip r:embed="rId4"/>
          <a:stretch/>
        </p:blipFill>
        <p:spPr>
          <a:xfrm>
            <a:off x="3114720" y="3249720"/>
            <a:ext cx="3193920" cy="30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4FD5-A534-4533-97AE-551F07CD83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5" name="AutoShape 5"/>
          <p:cNvSpPr/>
          <p:nvPr/>
        </p:nvSpPr>
        <p:spPr>
          <a:xfrm>
            <a:off x="201600" y="56052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46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  <p:sp>
        <p:nvSpPr>
          <p:cNvPr id="547" name="AutoShape 14"/>
          <p:cNvSpPr/>
          <p:nvPr/>
        </p:nvSpPr>
        <p:spPr>
          <a:xfrm>
            <a:off x="506520" y="2252520"/>
            <a:ext cx="7697520" cy="18669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9bde22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Письмо о направлении требований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к организации образовательного процесса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для обучения инвалидов и лиц с ОВЗ в ПОО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т 18 марта 2014г.  № 06-281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8" name="AutoShape 13"/>
          <p:cNvSpPr/>
          <p:nvPr/>
        </p:nvSpPr>
        <p:spPr>
          <a:xfrm>
            <a:off x="484200" y="4351320"/>
            <a:ext cx="7697880" cy="186696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9bde22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Письмо Министерства образования и науки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Российской Федерации,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Федеральной службы по надзору в сфере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бразования и науки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т 14 ноября 2016 г. №05-616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F0ED-5162-4A10-B20D-5B667A0E21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0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ый учет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милия, имя, отчество обучающегося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ющееся образование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ные о семье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группе инвалидности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виде нарушения здоровья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ПМПК и/или МСЭ (ИПРА)*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 в специалистах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социокультурной среды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ие на обработку персональных данных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1" name="Рисунок 3" descr=""/>
          <p:cNvPicPr/>
          <p:nvPr/>
        </p:nvPicPr>
        <p:blipFill>
          <a:blip r:embed="rId1"/>
          <a:stretch/>
        </p:blipFill>
        <p:spPr>
          <a:xfrm>
            <a:off x="493560" y="798480"/>
            <a:ext cx="347832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D0C5-94FE-4E53-8F0B-E34DDDAA57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3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нарушений здоровья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я слуха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я зрения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я опорно-двигательного аппарата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ругие виды нарушений здоровья (соматические заболевания,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ные, психические нарушения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я интеллекта (ЗПР, УО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ожные дефекты (2 и более нарушений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есение обучающихся к тому или иному виду нарушений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я осуществляется по тому виду нарушений здоровья,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в большей степен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трудняет учебный процесс и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ребует создания специальных условий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4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2" descr=""/>
          <p:cNvPicPr/>
          <p:nvPr/>
        </p:nvPicPr>
        <p:blipFill>
          <a:blip r:embed="rId2"/>
          <a:stretch/>
        </p:blipFill>
        <p:spPr>
          <a:xfrm>
            <a:off x="324000" y="486396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1CA5-106C-4FF3-BA0B-C1A6E9BEC0D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7" name="AutoShape 5"/>
          <p:cNvSpPr/>
          <p:nvPr/>
        </p:nvSpPr>
        <p:spPr>
          <a:xfrm>
            <a:off x="322200" y="27288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ПМПК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58" name="Рисунок 3" descr=""/>
          <p:cNvPicPr/>
          <p:nvPr/>
        </p:nvPicPr>
        <p:blipFill>
          <a:blip r:embed="rId1"/>
          <a:stretch/>
        </p:blipFill>
        <p:spPr>
          <a:xfrm>
            <a:off x="480960" y="3747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" descr=""/>
          <p:cNvPicPr/>
          <p:nvPr/>
        </p:nvPicPr>
        <p:blipFill>
          <a:blip r:embed="rId2"/>
          <a:stretch/>
        </p:blipFill>
        <p:spPr>
          <a:xfrm>
            <a:off x="784080" y="1817640"/>
            <a:ext cx="7661520" cy="424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E8B1-2D1B-4645-BB27-7B594D669D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1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учета лиц с ОВЗ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62" name="Рисунок 3" descr=""/>
          <p:cNvPicPr/>
          <p:nvPr/>
        </p:nvPicPr>
        <p:blipFill>
          <a:blip r:embed="rId1"/>
          <a:stretch/>
        </p:blipFill>
        <p:spPr>
          <a:xfrm>
            <a:off x="480960" y="3747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2"/>
          <a:stretch/>
        </p:blipFill>
        <p:spPr>
          <a:xfrm>
            <a:off x="534960" y="1685880"/>
            <a:ext cx="8285040" cy="458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C6E7-2E14-4231-92D3-4855E6F675B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5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66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" descr=""/>
          <p:cNvPicPr/>
          <p:nvPr/>
        </p:nvPicPr>
        <p:blipFill>
          <a:blip r:embed="rId2"/>
          <a:stretch/>
        </p:blipFill>
        <p:spPr>
          <a:xfrm>
            <a:off x="378000" y="2066760"/>
            <a:ext cx="8121600" cy="433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5023-04F8-4481-932E-0E3B037E808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4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5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" descr=""/>
          <p:cNvPicPr/>
          <p:nvPr/>
        </p:nvPicPr>
        <p:blipFill>
          <a:blip r:embed="rId2"/>
          <a:stretch/>
        </p:blipFill>
        <p:spPr>
          <a:xfrm>
            <a:off x="466560" y="2044800"/>
            <a:ext cx="7893360" cy="44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C12A5-0364-4D56-9542-CDF53CBA33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69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70" name="Рисунок 3" descr=""/>
          <p:cNvPicPr/>
          <p:nvPr/>
        </p:nvPicPr>
        <p:blipFill>
          <a:blip r:embed="rId1"/>
          <a:stretch/>
        </p:blipFill>
        <p:spPr>
          <a:xfrm>
            <a:off x="190440" y="4809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1" descr=""/>
          <p:cNvPicPr/>
          <p:nvPr/>
        </p:nvPicPr>
        <p:blipFill>
          <a:blip r:embed="rId2"/>
          <a:stretch/>
        </p:blipFill>
        <p:spPr>
          <a:xfrm>
            <a:off x="309600" y="1754280"/>
            <a:ext cx="8258040" cy="46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796F-F31D-4352-8B9C-30B8E909D4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3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74" name="Рисунок 3" descr=""/>
          <p:cNvPicPr/>
          <p:nvPr/>
        </p:nvPicPr>
        <p:blipFill>
          <a:blip r:embed="rId1"/>
          <a:stretch/>
        </p:blipFill>
        <p:spPr>
          <a:xfrm>
            <a:off x="374760" y="42372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575" name="Рисунок 1" descr=""/>
          <p:cNvPicPr/>
          <p:nvPr/>
        </p:nvPicPr>
        <p:blipFill>
          <a:blip r:embed="rId2"/>
          <a:stretch/>
        </p:blipFill>
        <p:spPr>
          <a:xfrm>
            <a:off x="374760" y="1641600"/>
            <a:ext cx="8312040" cy="460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A9F1-BCBB-47DB-8834-86FE8B5E6C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7" name="AutoShape 5"/>
          <p:cNvSpPr/>
          <p:nvPr/>
        </p:nvSpPr>
        <p:spPr>
          <a:xfrm>
            <a:off x="190440" y="56052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78" name="Рисунок 3" descr=""/>
          <p:cNvPicPr/>
          <p:nvPr/>
        </p:nvPicPr>
        <p:blipFill>
          <a:blip r:embed="rId1"/>
          <a:stretch/>
        </p:blipFill>
        <p:spPr>
          <a:xfrm>
            <a:off x="412920" y="44280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579" name="Рисунок 1" descr=""/>
          <p:cNvPicPr/>
          <p:nvPr/>
        </p:nvPicPr>
        <p:blipFill>
          <a:blip r:embed="rId2"/>
          <a:stretch/>
        </p:blipFill>
        <p:spPr>
          <a:xfrm>
            <a:off x="71280" y="1541520"/>
            <a:ext cx="8626680" cy="518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FB444-42E5-4ECA-9804-669E95EB512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gradFill rotWithShape="0">
            <a:gsLst>
              <a:gs pos="0">
                <a:srgbClr val="ffffff"/>
              </a:gs>
              <a:gs pos="100000">
                <a:srgbClr val="9bde22">
                  <a:alpha val="85098"/>
                </a:srgbClr>
              </a:gs>
            </a:gsLst>
            <a:path path="rect">
              <a:fillToRect l="50000" t="50000" r="50000" b="50000"/>
            </a:path>
          </a:gra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82" name="Рисунок 3" descr=""/>
          <p:cNvPicPr/>
          <p:nvPr/>
        </p:nvPicPr>
        <p:blipFill>
          <a:blip r:embed="rId1"/>
          <a:stretch/>
        </p:blipFill>
        <p:spPr>
          <a:xfrm>
            <a:off x="204840" y="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83" name="Рисунок 6" descr="D:\ЦПО\Мониторинг ОВЗ\Спец.учет\2020\Консультация\IMG-025e705f953f29d0c4903dde97d07b5f-V.jpg"/>
          <p:cNvPicPr/>
          <p:nvPr/>
        </p:nvPicPr>
        <p:blipFill>
          <a:blip r:embed="rId2"/>
          <a:srcRect l="0" t="0" r="0" b="36503"/>
          <a:stretch/>
        </p:blipFill>
        <p:spPr>
          <a:xfrm>
            <a:off x="1635120" y="763560"/>
            <a:ext cx="6348240" cy="56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1DC5-326A-4C41-BB64-A6E83C5C385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5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86" name="Рисунок 3" descr=""/>
          <p:cNvPicPr/>
          <p:nvPr/>
        </p:nvPicPr>
        <p:blipFill>
          <a:blip r:embed="rId1"/>
          <a:stretch/>
        </p:blipFill>
        <p:spPr>
          <a:xfrm>
            <a:off x="0" y="1584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87" name="Рисунок 4" descr="D:\ЦПО\Мониторинг ОВЗ\Спец.учет\2020\Консультация\IMG-28aa1bba21d44e932079aa90d4898217-V.jpg"/>
          <p:cNvPicPr/>
          <p:nvPr/>
        </p:nvPicPr>
        <p:blipFill>
          <a:blip r:embed="rId2"/>
          <a:srcRect l="6737" t="30789" r="9880" b="20745"/>
          <a:stretch/>
        </p:blipFill>
        <p:spPr>
          <a:xfrm>
            <a:off x="1405080" y="1168560"/>
            <a:ext cx="7097400" cy="50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BF9D-2696-4DA4-91D9-40F3CA842F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9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ПМПК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тельно для предоставления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лендарного года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аты его подписания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Это означает, что, если в течении года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бучающийся не предоставил заключение ПМПК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в образовательную организацию,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ему вновь нужно будет пройти ПМПК,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если он примет решение о необходимост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реализации рекомендаций ПМПК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90" name="Рисунок 3" descr=""/>
          <p:cNvPicPr/>
          <p:nvPr/>
        </p:nvPicPr>
        <p:blipFill>
          <a:blip r:embed="rId1"/>
          <a:stretch/>
        </p:blipFill>
        <p:spPr>
          <a:xfrm>
            <a:off x="357120" y="185760"/>
            <a:ext cx="347832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20EE-9F28-42E6-ABE2-2E7C6E75805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2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являю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ами о признани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егося лицом с ОВЗ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ская справка о состоянии здоровья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педагога-психолога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врачебных комиссий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об установлении инвалидности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е законодательство не устанавливает порядок и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установление статуса «обучающийся с ОВЗ» 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 лиц, имеющих статус «инвалид» («ребенок-инвалид»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93" name="Рисунок 3" descr=""/>
          <p:cNvPicPr/>
          <p:nvPr/>
        </p:nvPicPr>
        <p:blipFill>
          <a:blip r:embed="rId1"/>
          <a:stretch/>
        </p:blipFill>
        <p:spPr>
          <a:xfrm>
            <a:off x="480960" y="3747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2" descr=""/>
          <p:cNvPicPr/>
          <p:nvPr/>
        </p:nvPicPr>
        <p:blipFill>
          <a:blip r:embed="rId2"/>
          <a:stretch/>
        </p:blipFill>
        <p:spPr>
          <a:xfrm>
            <a:off x="406440" y="4513320"/>
            <a:ext cx="1076400" cy="122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67B6-24F0-4946-9FA9-EC101EB0F6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тверждении примерного Положения 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о-педагогическом консилиуме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ой организации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09.09.2019г. Р-93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97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941E-5ABF-4422-BEB4-8E5D433729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, содержащаяся в справке МСЭ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амилия, имя, отчество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ата рождения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сто жительства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становлена инвалидность впервые или повторно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уппа инвалидности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чина инвалидности;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ок, на который установлена инвалидность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нкретная дата или бессрочно)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cc00"/>
              </a:buClr>
              <a:buSzPct val="120000"/>
              <a:buFont typeface="Times New Roman"/>
              <a:buChar char="-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1" lang="en-US" sz="1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00" name="Рисунок 3" descr=""/>
          <p:cNvPicPr/>
          <p:nvPr/>
        </p:nvPicPr>
        <p:blipFill>
          <a:blip r:embed="rId1"/>
          <a:stretch/>
        </p:blipFill>
        <p:spPr>
          <a:xfrm>
            <a:off x="480960" y="374760"/>
            <a:ext cx="347832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F804-B7B0-4A1E-8907-67E11E98CF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2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МСЭ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03" name="Рисунок 3" descr=""/>
          <p:cNvPicPr/>
          <p:nvPr/>
        </p:nvPicPr>
        <p:blipFill>
          <a:blip r:embed="rId1"/>
          <a:stretch/>
        </p:blipFill>
        <p:spPr>
          <a:xfrm>
            <a:off x="480960" y="3747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D:\по программам ПК\образец справки МСЭ.jpg"/>
          <p:cNvPicPr/>
          <p:nvPr/>
        </p:nvPicPr>
        <p:blipFill>
          <a:blip r:embed="rId2"/>
          <a:stretch/>
        </p:blipFill>
        <p:spPr>
          <a:xfrm>
            <a:off x="996840" y="1252440"/>
            <a:ext cx="7221600" cy="509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23A1-1A53-422E-A577-EC4A1D80DD1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08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09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1" descr=""/>
          <p:cNvPicPr/>
          <p:nvPr/>
        </p:nvPicPr>
        <p:blipFill>
          <a:blip r:embed="rId2"/>
          <a:stretch/>
        </p:blipFill>
        <p:spPr>
          <a:xfrm>
            <a:off x="295200" y="409680"/>
            <a:ext cx="8286840" cy="615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1EC1-EA3A-47CC-9A84-F7FA9FC4FAD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6" name="AutoShape 5"/>
          <p:cNvSpPr/>
          <p:nvPr/>
        </p:nvSpPr>
        <p:spPr>
          <a:xfrm>
            <a:off x="357120" y="18576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ка МСЭ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07" name="Рисунок 3" descr=""/>
          <p:cNvPicPr/>
          <p:nvPr/>
        </p:nvPicPr>
        <p:blipFill>
          <a:blip r:embed="rId1"/>
          <a:stretch/>
        </p:blipFill>
        <p:spPr>
          <a:xfrm>
            <a:off x="357120" y="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608" name="Рисунок 6" descr="D:\ЦПО\Мониторинг ОВЗ\Спец.учет\2020\Консультация\IMG-fda9d2ebf7267f87ffa338014ef471f3-V.jpg"/>
          <p:cNvPicPr/>
          <p:nvPr/>
        </p:nvPicPr>
        <p:blipFill>
          <a:blip r:embed="rId2"/>
          <a:srcRect l="0" t="51111" r="0" b="15336"/>
          <a:stretch/>
        </p:blipFill>
        <p:spPr>
          <a:xfrm>
            <a:off x="824040" y="1338120"/>
            <a:ext cx="7761240" cy="490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1542-64C5-441C-9ADA-5FD1194149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0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отчетной документации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11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22DA-BA77-48A8-BE6F-B43E29AFEED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3" name="AutoShape 5"/>
          <p:cNvSpPr/>
          <p:nvPr/>
        </p:nvSpPr>
        <p:spPr>
          <a:xfrm>
            <a:off x="190440" y="411120"/>
            <a:ext cx="8496360" cy="629748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Распоряжение 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Губернатора Самарской област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от 05.11.2015 № 644-р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«Об утверждении Межведомственного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комплексного плана мероприятий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по организации инклюзивного образования 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созданию специальных условий для получения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профессионального образования инвалидами и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лицами с ограниченными возможностями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здоровья в Самарской области на 2015-2020 годы»  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800"/>
                </a:solidFill>
                <a:latin typeface="Times New Roman"/>
                <a:ea typeface="Times New Roman"/>
              </a:rPr>
              <a:t>(ред. 04.08.2017г.).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14" name="Рисунок 3" descr=""/>
          <p:cNvPicPr/>
          <p:nvPr/>
        </p:nvPicPr>
        <p:blipFill>
          <a:blip r:embed="rId1"/>
          <a:stretch/>
        </p:blipFill>
        <p:spPr>
          <a:xfrm>
            <a:off x="190440" y="642960"/>
            <a:ext cx="3478320" cy="12175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2" descr=""/>
          <p:cNvPicPr/>
          <p:nvPr/>
        </p:nvPicPr>
        <p:blipFill>
          <a:blip r:embed="rId2"/>
          <a:stretch/>
        </p:blipFill>
        <p:spPr>
          <a:xfrm>
            <a:off x="374760" y="209232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CD21-1667-42DD-A991-C5D9AFBC39C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7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рт-апрель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 наличия в ПО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й для получения профессионального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я инвалидами и лицами с ОВЗ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ктябр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аза данных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ециализированному учету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18" name="Рисунок 3" descr=""/>
          <p:cNvPicPr/>
          <p:nvPr/>
        </p:nvPicPr>
        <p:blipFill>
          <a:blip r:embed="rId1"/>
          <a:stretch/>
        </p:blipFill>
        <p:spPr>
          <a:xfrm>
            <a:off x="331920" y="42372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"/>
          <p:cNvPicPr/>
          <p:nvPr/>
        </p:nvPicPr>
        <p:blipFill>
          <a:blip r:embed="rId2"/>
          <a:stretch/>
        </p:blipFill>
        <p:spPr>
          <a:xfrm>
            <a:off x="331920" y="181116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4776-EC91-4890-A7AD-BF6C6EBB973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1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валидов и лиц с ОВЗ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22" name="Рисунок 3" descr=""/>
          <p:cNvPicPr/>
          <p:nvPr/>
        </p:nvPicPr>
        <p:blipFill>
          <a:blip r:embed="rId1"/>
          <a:stretch/>
        </p:blipFill>
        <p:spPr>
          <a:xfrm>
            <a:off x="507960" y="743040"/>
            <a:ext cx="3478320" cy="12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3" name=""/>
          <p:cNvGraphicFramePr/>
          <p:nvPr/>
        </p:nvGraphicFramePr>
        <p:xfrm>
          <a:off x="814320" y="2476440"/>
          <a:ext cx="7248600" cy="4073760"/>
        </p:xfrm>
        <a:graphic>
          <a:graphicData uri="http://schemas.openxmlformats.org/drawingml/2006/table">
            <a:tbl>
              <a:tblPr/>
              <a:tblGrid>
                <a:gridCol w="2416320"/>
                <a:gridCol w="2415960"/>
                <a:gridCol w="2416320"/>
              </a:tblGrid>
              <a:tr h="113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По программам СП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По программам профессионального обучения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Инвалидов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4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7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Обучающихся с ОВЗ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Инвалид и обучающийся с ОВЗ (2 статуса одновременно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Всег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5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1BDF0-994C-49B9-9E48-07AEEDF95B6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5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валидов и лиц с ОВЗ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26" name="Рисунок 3" descr=""/>
          <p:cNvPicPr/>
          <p:nvPr/>
        </p:nvPicPr>
        <p:blipFill>
          <a:blip r:embed="rId1"/>
          <a:stretch/>
        </p:blipFill>
        <p:spPr>
          <a:xfrm>
            <a:off x="507960" y="743040"/>
            <a:ext cx="3478320" cy="12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7" name=""/>
          <p:cNvGraphicFramePr/>
          <p:nvPr/>
        </p:nvGraphicFramePr>
        <p:xfrm>
          <a:off x="709560" y="2496960"/>
          <a:ext cx="7344000" cy="4259520"/>
        </p:xfrm>
        <a:graphic>
          <a:graphicData uri="http://schemas.openxmlformats.org/drawingml/2006/table">
            <a:tbl>
              <a:tblPr/>
              <a:tblGrid>
                <a:gridCol w="2448000"/>
                <a:gridCol w="2448000"/>
                <a:gridCol w="2448000"/>
              </a:tblGrid>
              <a:tr h="1238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 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По программам СП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По программам профессионального обучения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Инвалидов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Обучающихся с ОВЗ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1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6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Инвалид и обучающийся с ОВЗ (2 статуса одновременно)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Всего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20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74600"/>
                          <a:tab algn="l" pos="6550200"/>
                          <a:tab algn="l" pos="678024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ourier New"/>
                        </a:rPr>
                        <a:t>88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Arial Narrow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27AB-299E-4E7D-B623-B468E4577D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9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ение бланка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ированного учета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30" name="Рисунок 3" descr=""/>
          <p:cNvPicPr/>
          <p:nvPr/>
        </p:nvPicPr>
        <p:blipFill>
          <a:blip r:embed="rId1"/>
          <a:stretch/>
        </p:blipFill>
        <p:spPr>
          <a:xfrm>
            <a:off x="331920" y="42372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2" descr=""/>
          <p:cNvPicPr/>
          <p:nvPr/>
        </p:nvPicPr>
        <p:blipFill>
          <a:blip r:embed="rId2"/>
          <a:stretch/>
        </p:blipFill>
        <p:spPr>
          <a:xfrm>
            <a:off x="331920" y="181116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9775-08DD-41D3-A587-FC5FB851DF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3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сдачи базы данных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пециализированному учету –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 30 октября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бинет 107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34" name="Рисунок 3" descr=""/>
          <p:cNvPicPr/>
          <p:nvPr/>
        </p:nvPicPr>
        <p:blipFill>
          <a:blip r:embed="rId1"/>
          <a:stretch/>
        </p:blipFill>
        <p:spPr>
          <a:xfrm>
            <a:off x="331920" y="42372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2" descr=""/>
          <p:cNvPicPr/>
          <p:nvPr/>
        </p:nvPicPr>
        <p:blipFill>
          <a:blip r:embed="rId2"/>
          <a:stretch/>
        </p:blipFill>
        <p:spPr>
          <a:xfrm>
            <a:off x="331920" y="181116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9285-E2EF-4B55-A6B0-E8E6FC9282E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7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ова Наталья Григорьевна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334-04-71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9272048720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menova@cposo.ru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638" name="Рисунок 3" descr=""/>
          <p:cNvPicPr/>
          <p:nvPr/>
        </p:nvPicPr>
        <p:blipFill>
          <a:blip r:embed="rId1"/>
          <a:stretch/>
        </p:blipFill>
        <p:spPr>
          <a:xfrm>
            <a:off x="331920" y="423720"/>
            <a:ext cx="3477960" cy="12178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331920" y="1811160"/>
            <a:ext cx="1076040" cy="12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1AA55-6496-448C-9FE7-CB0324F1D60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2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4.11.1995 г. № 181-ФЗ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социальной защите инвалидов в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»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л.ред. 18.07.2019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13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06A7-1FC0-4CA8-8068-E88820BB4B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5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валид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о, которое имеет нарушение здоровь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тойким расстройством функций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а, обусловленное заболеваниями,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ствиями травм или дефектами,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одящее к ограничению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едеятельности и вызывающее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его социальной защиты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тверждается справкой об инвалидности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юро МСЭ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16" name="Рисунок 3" descr=""/>
          <p:cNvPicPr/>
          <p:nvPr/>
        </p:nvPicPr>
        <p:blipFill>
          <a:blip r:embed="rId1"/>
          <a:stretch/>
        </p:blipFill>
        <p:spPr>
          <a:xfrm>
            <a:off x="190440" y="42372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3A7B-8DF0-44AF-9D43-D3B13A70BCE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8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граничение жизнедеятельност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лна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частичная утрата лицом способности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возможности осуществлять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бслуживание, самостоятельно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вигаться, ориентироваться, общаться,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ировать свое поведение, обучаться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ниматься трудовой деятельностью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19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CA82-D80A-4D42-9911-7236F9DB11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1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бенок-инвалид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категория,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емая инвалидам в возрасте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8 лет;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2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0F51-82B7-4B94-9A52-C5E34B67429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4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атья 19.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инвалидов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5" name="Рисунок 3" descr=""/>
          <p:cNvPicPr/>
          <p:nvPr/>
        </p:nvPicPr>
        <p:blipFill>
          <a:blip r:embed="rId1"/>
          <a:stretch/>
        </p:blipFill>
        <p:spPr>
          <a:xfrm>
            <a:off x="630360" y="620640"/>
            <a:ext cx="347796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738E-47EE-4F9D-AA3D-C2069A2134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7" name="AutoShape 5"/>
          <p:cNvSpPr/>
          <p:nvPr/>
        </p:nvSpPr>
        <p:spPr>
          <a:xfrm>
            <a:off x="190440" y="423720"/>
            <a:ext cx="8496360" cy="6297840"/>
          </a:xfrm>
          <a:prstGeom prst="roundRect">
            <a:avLst>
              <a:gd name="adj" fmla="val 13060"/>
            </a:avLst>
          </a:prstGeom>
          <a:solidFill>
            <a:srgbClr val="85e0e0"/>
          </a:solidFill>
          <a:ln w="27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1600" rIns="111600" tIns="66600" bIns="66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й закон от 29.12.2012 г. № 273-ФЗ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б образовании в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»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л.ред. 26.07.2019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528" name="Рисунок 3" descr=""/>
          <p:cNvPicPr/>
          <p:nvPr/>
        </p:nvPicPr>
        <p:blipFill>
          <a:blip r:embed="rId1"/>
          <a:stretch/>
        </p:blipFill>
        <p:spPr>
          <a:xfrm>
            <a:off x="466560" y="757080"/>
            <a:ext cx="3478320" cy="121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3:55:37Z</dcterms:created>
  <dc:creator>Пользователь</dc:creator>
  <dc:description/>
  <dc:language>en-US</dc:language>
  <cp:lastModifiedBy>Пользователь</cp:lastModifiedBy>
  <dcterms:modified xsi:type="dcterms:W3CDTF">2020-10-12T12:26:26Z</dcterms:modified>
  <cp:revision>335</cp:revision>
  <dc:subject/>
  <dc:title>Основные виды технических средств обучения, их классификация и характерис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f000000000001024140</vt:lpwstr>
  </property>
</Properties>
</file>