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130-2E66-42F1-88DE-20060489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910-C7BA-4149-9DE0-ED8967A6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977-C6E7-4979-B806-8DB79CB7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EC9-2E8B-44E6-AAB1-6D84B3F1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64D-F42B-4A9D-B652-462BA0AB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F1C-9686-4A7A-992D-97B3809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7FE-5CEF-4AE8-AF06-90FA3BB6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C17-7F76-442E-A9B0-C1360878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51A-0A72-4847-B7E0-BFA97902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DB1-5089-4911-A1A4-F4958EE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98F-718C-445C-BF2A-1E8EEDB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13E-448F-448F-A132-320788A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5DCA-6095-483B-A28E-5E4FCD6B8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403200" y="1628640"/>
            <a:ext cx="82296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 итогах приемной кампании 2019 года в государственные профессиональные образовательные орган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7"/>
          <p:cNvSpPr/>
          <p:nvPr/>
        </p:nvSpPr>
        <p:spPr>
          <a:xfrm>
            <a:off x="2908440" y="5362560"/>
            <a:ext cx="5984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</a:rPr>
              <a:t>Мочалов Александр Николаевич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руководитель управления профессион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образования и нау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09.10.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19"/>
          <p:cNvSpPr/>
          <p:nvPr/>
        </p:nvSpPr>
        <p:spPr>
          <a:xfrm>
            <a:off x="4518000" y="5229360"/>
            <a:ext cx="43750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88920" y="826920"/>
          <a:ext cx="8966160" cy="6012000"/>
        </p:xfrm>
        <a:graphic>
          <a:graphicData uri="http://schemas.openxmlformats.org/drawingml/2006/table">
            <a:tbl>
              <a:tblPr/>
              <a:tblGrid>
                <a:gridCol w="8966160"/>
              </a:tblGrid>
              <a:tr h="343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I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0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– 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центр с. Камыш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таллург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ский государ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промышлен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енчукский аграр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нель-Черкасский сельскохозяй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4158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страв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шаровский государственный техник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атов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энергет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оргово-эконом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паевский химико-технологически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дненский нефтяно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е училище с. Дома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паевский губернский колледж им. О.Колыч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ский техникум строительных и сервисных технологий им. В.Г. Куба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фтегорский государ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техникум м.р. Кошк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химико-технологически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ногопрофильный колледж им. Бартенева В.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дж гуманитарных и социально-педагогических дисцип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областное училище культуры и искус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яр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художествен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E454EB48-3771-4A77-A64C-7C4398F517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F93A2ECB-6190-459B-A1FC-513091AC78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144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135000" y="15876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ализация краткосрочных пр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1093" t="12435" r="32560" b="30517"/>
          <a:stretch/>
        </p:blipFill>
        <p:spPr>
          <a:xfrm>
            <a:off x="22320" y="1484280"/>
            <a:ext cx="3821040" cy="2843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0" name="TextBox 4"/>
          <p:cNvSpPr/>
          <p:nvPr/>
        </p:nvSpPr>
        <p:spPr>
          <a:xfrm>
            <a:off x="4067280" y="1371600"/>
            <a:ext cx="46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 0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 – прошли обучение в 2019 году (по состоянию на 1 сентябр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59360" y="2421000"/>
          <a:ext cx="4914720" cy="2063520"/>
        </p:xfrm>
        <a:graphic>
          <a:graphicData uri="http://schemas.openxmlformats.org/drawingml/2006/table">
            <a:tbl>
              <a:tblPr/>
              <a:tblGrid>
                <a:gridCol w="4194000"/>
                <a:gridCol w="720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дицин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едицин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соц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Похвистн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медико-гуманитар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E4658962-6285-4A2F-90A7-1B5A8484C3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34920" y="15876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ализация профессионального обучения и дополнительного профессионального образования граждан предпенсионного возраста в 201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052640"/>
          <a:ext cx="8713800" cy="5983200"/>
        </p:xfrm>
        <a:graphic>
          <a:graphicData uri="http://schemas.openxmlformats.org/drawingml/2006/table">
            <a:tbl>
              <a:tblPr/>
              <a:tblGrid>
                <a:gridCol w="4321080"/>
                <a:gridCol w="863640"/>
                <a:gridCol w="2736720"/>
                <a:gridCol w="792360"/>
              </a:tblGrid>
              <a:tr h="411480"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бразовательно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о по состоянию на 07.10.2019 г., че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о, 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Новокуйбышевский гуманитарно-технол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 человек проходит обучени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Колледж технического и художественного образован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Самарский государствен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Самарский колледж сервиса производственного оборудования им. Героя Российской Федерации Е.В. Золотухи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машиностроитель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соц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63 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электротехнический технику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Губернский колледж г. Сызран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оходит обучение 20 чел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индустр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государственный колледж сервисных технологий и дизай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ехникум кулинарного искусств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47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ехникум промышленных технологи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76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оргово-эконом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 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80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Технологический колледж им. Н.Д. Кузнецов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ПО с 16.09-09.11)  16 (ДПО с 30.09-26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Поволжский государствен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соц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Группы в процессе формирова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   (проходят обучение 169 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C7C39A06-249D-4AEA-855F-E0E1A5CF04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ttps://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фстажировки.рф/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udent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5053" t="2817" r="19628" b="5431"/>
          <a:stretch/>
        </p:blipFill>
        <p:spPr>
          <a:xfrm>
            <a:off x="190440" y="836640"/>
            <a:ext cx="855828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тоги приемной кампании в профессиональные образовательные организации Сама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1" descr=""/>
          <p:cNvPicPr/>
          <p:nvPr/>
        </p:nvPicPr>
        <p:blipFill>
          <a:blip r:embed="rId1"/>
          <a:stretch/>
        </p:blipFill>
        <p:spPr>
          <a:xfrm>
            <a:off x="2144880" y="2514600"/>
            <a:ext cx="6870600" cy="413388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7"/>
          <p:cNvSpPr/>
          <p:nvPr/>
        </p:nvSpPr>
        <p:spPr>
          <a:xfrm>
            <a:off x="108000" y="958680"/>
            <a:ext cx="3311640" cy="2087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Выполнение КЦ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9 – 99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8 – 97,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7 – 95,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0" y="115920"/>
            <a:ext cx="9144000" cy="9144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инамика выполнения КЦП по профилям подготов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2200" y="1413000"/>
          <a:ext cx="8497800" cy="4725720"/>
        </p:xfrm>
        <a:graphic>
          <a:graphicData uri="http://schemas.openxmlformats.org/drawingml/2006/table">
            <a:tbl>
              <a:tblPr/>
              <a:tblGrid>
                <a:gridCol w="6337440"/>
                <a:gridCol w="718920"/>
                <a:gridCol w="720720"/>
                <a:gridCol w="72072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4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рофессии и специальности сферы IT-технологий, электро- и теплоэнергетика, машиностроения,  химическ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строите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технический профи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сельск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рофессии и специальности пищевой промыш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науки об обществе (социология, экономика, юриспруденция, сервис и туриз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115920"/>
            <a:ext cx="9144000" cy="1052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высококвалифицированных специалистов и рабочих кадров с учетом современных стандартов и передовых технолог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чие кадры для передовых технологи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Диаграмма 1" descr=""/>
          <p:cNvPicPr/>
          <p:nvPr/>
        </p:nvPicPr>
        <p:blipFill>
          <a:blip r:embed="rId1"/>
          <a:stretch/>
        </p:blipFill>
        <p:spPr>
          <a:xfrm>
            <a:off x="200160" y="1217520"/>
            <a:ext cx="4278240" cy="2549520"/>
          </a:xfrm>
          <a:prstGeom prst="rect">
            <a:avLst/>
          </a:prstGeom>
          <a:ln w="0">
            <a:noFill/>
          </a:ln>
        </p:spPr>
      </p:pic>
      <p:pic>
        <p:nvPicPr>
          <p:cNvPr id="51" name="Диаграмма 2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990960" cy="2765520"/>
          </a:xfrm>
          <a:prstGeom prst="rect">
            <a:avLst/>
          </a:prstGeom>
          <a:ln w="0">
            <a:noFill/>
          </a:ln>
        </p:spPr>
      </p:pic>
      <p:pic>
        <p:nvPicPr>
          <p:cNvPr id="52" name="Диаграмма 8" descr=""/>
          <p:cNvPicPr/>
          <p:nvPr/>
        </p:nvPicPr>
        <p:blipFill>
          <a:blip r:embed="rId3"/>
          <a:stretch/>
        </p:blipFill>
        <p:spPr>
          <a:xfrm>
            <a:off x="4737240" y="3933720"/>
            <a:ext cx="3990960" cy="2765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643280" y="141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0" y="1268280"/>
          <a:ext cx="4392720" cy="2266920"/>
        </p:xfrm>
        <a:graphic>
          <a:graphicData uri="http://schemas.openxmlformats.org/drawingml/2006/table">
            <a:tbl>
              <a:tblPr/>
              <a:tblGrid>
                <a:gridCol w="1224000"/>
                <a:gridCol w="1297080"/>
                <a:gridCol w="1871640"/>
              </a:tblGrid>
              <a:tr h="16574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Целевой индикатор  комплекса мер, направленных на совершенствование системы СП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 2015-2020 г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«Доля ПОО, в которых осуществляется подготовка кадров по 50 наиболее перспективным и востребованным на рынке труда профессиям и специальностя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600" y="138240"/>
            <a:ext cx="9023400" cy="1052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объема и структуры контрольных цифр приема граждан для обучения по образовательным программам среднего профессионального образования за счет средств бюджета Самар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Диаграмма 2" descr=""/>
          <p:cNvPicPr/>
          <p:nvPr/>
        </p:nvPicPr>
        <p:blipFill>
          <a:blip r:embed="rId1"/>
          <a:stretch/>
        </p:blipFill>
        <p:spPr>
          <a:xfrm>
            <a:off x="150840" y="1301760"/>
            <a:ext cx="521316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Выгнутая вниз стрелка 15"/>
          <p:cNvSpPr/>
          <p:nvPr/>
        </p:nvSpPr>
        <p:spPr>
          <a:xfrm>
            <a:off x="3635280" y="3595680"/>
            <a:ext cx="1209600" cy="431640"/>
          </a:xfrm>
          <a:custGeom>
            <a:avLst/>
            <a:gdLst>
              <a:gd name="textAreaLeft" fmla="*/ 261720 w 1209600"/>
              <a:gd name="textAreaRight" fmla="*/ 893880 w 12096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55" hR="21600" stAng="10800000" swAng="-5400000"/>
                <a:lnTo>
                  <a:pt x="11282" y="21600"/>
                </a:lnTo>
                <a:arcTo wR="9355" hR="21600" stAng="5400000" swAng="-3551812"/>
                <a:lnTo>
                  <a:pt x="21303" y="5400"/>
                </a:lnTo>
                <a:lnTo>
                  <a:pt x="19673" y="0"/>
                </a:lnTo>
                <a:lnTo>
                  <a:pt x="17448" y="5400"/>
                </a:lnTo>
                <a:lnTo>
                  <a:pt x="18412" y="5400"/>
                </a:lnTo>
                <a:arcTo wR="9355" hR="21600" stAng="1848188" swAng="3397749"/>
                <a:lnTo>
                  <a:pt x="10318" y="21485"/>
                </a:lnTo>
                <a:arcTo wR="9355" hR="21600" stAng="5554062" swAng="5245938"/>
                <a:close/>
              </a:path>
              <a:path fill="darkenLess" w="21600" h="21600">
                <a:moveTo>
                  <a:pt x="0" y="0"/>
                </a:moveTo>
                <a:arcTo wR="9355" hR="21600" stAng="10800000" swAng="-5400000"/>
                <a:lnTo>
                  <a:pt x="11282" y="21600"/>
                </a:lnTo>
                <a:arcTo wR="9355" hR="21600" stAng="5400000" swAng="154062"/>
                <a:lnTo>
                  <a:pt x="10318" y="21485"/>
                </a:lnTo>
                <a:arcTo wR="9355" hR="21600" stAng="5554062" swAng="5245938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Выгнутая вниз стрелка 16"/>
          <p:cNvSpPr/>
          <p:nvPr/>
        </p:nvSpPr>
        <p:spPr>
          <a:xfrm>
            <a:off x="2124000" y="3587760"/>
            <a:ext cx="1332000" cy="431640"/>
          </a:xfrm>
          <a:custGeom>
            <a:avLst/>
            <a:gdLst>
              <a:gd name="textAreaLeft" fmla="*/ 292320 w 1332000"/>
              <a:gd name="textAreaRight" fmla="*/ 985680 w 1332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87" hR="21600" stAng="10800000" swAng="-5400000"/>
                <a:lnTo>
                  <a:pt x="11238" y="21600"/>
                </a:lnTo>
                <a:arcTo wR="9487" hR="21600" stAng="5400000" swAng="-3573008"/>
                <a:lnTo>
                  <a:pt x="21299" y="5400"/>
                </a:lnTo>
                <a:lnTo>
                  <a:pt x="19850" y="0"/>
                </a:lnTo>
                <a:lnTo>
                  <a:pt x="17798" y="5400"/>
                </a:lnTo>
                <a:lnTo>
                  <a:pt x="18673" y="5400"/>
                </a:lnTo>
                <a:arcTo wR="9487" hR="21600" stAng="1826992" swAng="3433148"/>
                <a:lnTo>
                  <a:pt x="10363" y="21508"/>
                </a:lnTo>
                <a:arcTo wR="9487" hR="21600" stAng="5539860" swAng="5260140"/>
                <a:close/>
              </a:path>
              <a:path fill="darkenLess" w="21600" h="21600">
                <a:moveTo>
                  <a:pt x="0" y="0"/>
                </a:moveTo>
                <a:arcTo wR="9487" hR="21600" stAng="10800000" swAng="-5400000"/>
                <a:lnTo>
                  <a:pt x="11238" y="21600"/>
                </a:lnTo>
                <a:arcTo wR="9487" hR="21600" stAng="5400000" swAng="139860"/>
                <a:lnTo>
                  <a:pt x="10363" y="21508"/>
                </a:lnTo>
                <a:arcTo wR="9487" hR="21600" stAng="5539860" swAng="5260140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Выгнутая вниз стрелка 17"/>
          <p:cNvSpPr/>
          <p:nvPr/>
        </p:nvSpPr>
        <p:spPr>
          <a:xfrm>
            <a:off x="684360" y="3576600"/>
            <a:ext cx="1366560" cy="432000"/>
          </a:xfrm>
          <a:custGeom>
            <a:avLst/>
            <a:gdLst>
              <a:gd name="textAreaLeft" fmla="*/ 300960 w 1366560"/>
              <a:gd name="textAreaRight" fmla="*/ 1011600 w 13665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1" hR="21600" stAng="10800000" swAng="-5400000"/>
                <a:lnTo>
                  <a:pt x="11227" y="21600"/>
                </a:lnTo>
                <a:arcTo wR="9521" hR="21600" stAng="5400000" swAng="-3578297"/>
                <a:lnTo>
                  <a:pt x="21298" y="5400"/>
                </a:lnTo>
                <a:lnTo>
                  <a:pt x="19894" y="0"/>
                </a:lnTo>
                <a:lnTo>
                  <a:pt x="17886" y="5400"/>
                </a:lnTo>
                <a:lnTo>
                  <a:pt x="18739" y="5400"/>
                </a:lnTo>
                <a:arcTo wR="9521" hR="21600" stAng="1821703" swAng="3442061"/>
                <a:lnTo>
                  <a:pt x="10374" y="21513"/>
                </a:lnTo>
                <a:arcTo wR="9521" hR="21600" stAng="5536236" swAng="5263764"/>
                <a:close/>
              </a:path>
              <a:path fill="darkenLess" w="21600" h="21600">
                <a:moveTo>
                  <a:pt x="0" y="0"/>
                </a:moveTo>
                <a:arcTo wR="9521" hR="21600" stAng="10800000" swAng="-5400000"/>
                <a:lnTo>
                  <a:pt x="11227" y="21600"/>
                </a:lnTo>
                <a:arcTo wR="9521" hR="21600" stAng="5400000" swAng="136236"/>
                <a:lnTo>
                  <a:pt x="10374" y="21513"/>
                </a:lnTo>
                <a:arcTo wR="9521" hR="21600" stAng="5536236" swAng="5263764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4003560" y="3576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8,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2610000" y="3576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,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1116000" y="3567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,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317520" y="4149720"/>
            <a:ext cx="433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КЦП по программам ПКРС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0,6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ТОП-50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4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пециальност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дитивные технологии, Обеспечение информационной безопасности автоматизированны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Диаграмма 2" descr=""/>
          <p:cNvPicPr/>
          <p:nvPr/>
        </p:nvPicPr>
        <p:blipFill>
          <a:blip r:embed="rId2"/>
          <a:stretch/>
        </p:blipFill>
        <p:spPr>
          <a:xfrm>
            <a:off x="5276880" y="1293840"/>
            <a:ext cx="3809880" cy="2344680"/>
          </a:xfrm>
          <a:prstGeom prst="rect">
            <a:avLst/>
          </a:prstGeom>
          <a:ln w="0">
            <a:noFill/>
          </a:ln>
        </p:spPr>
      </p:pic>
      <p:pic>
        <p:nvPicPr>
          <p:cNvPr id="65" name="Диаграмма 13" descr=""/>
          <p:cNvPicPr/>
          <p:nvPr/>
        </p:nvPicPr>
        <p:blipFill>
          <a:blip r:embed="rId3"/>
          <a:stretch/>
        </p:blipFill>
        <p:spPr>
          <a:xfrm>
            <a:off x="5291280" y="4468680"/>
            <a:ext cx="3462120" cy="1992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4788000" y="3825720"/>
            <a:ext cx="4572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м КЦП по ТОП-5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щем объеме, %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2600" y="138240"/>
            <a:ext cx="9023400" cy="1052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объема и структуры контрольных цифр приема граждан для обучения по образовательным программам среднего профессионального образования за счет средств бюджета Самар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39760" y="1773360"/>
          <a:ext cx="8569440" cy="4241520"/>
        </p:xfrm>
        <a:graphic>
          <a:graphicData uri="http://schemas.openxmlformats.org/drawingml/2006/table">
            <a:tbl>
              <a:tblPr/>
              <a:tblGrid>
                <a:gridCol w="5641920"/>
                <a:gridCol w="976320"/>
                <a:gridCol w="974880"/>
                <a:gridCol w="976320"/>
              </a:tblGrid>
              <a:tr h="54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и и специальности сферы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технологий, электро- и теплоэнергетика, машиностроения,  химическ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ите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 техническому профи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и и специальности пищевой промыш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и об обществе (экономика, юриспруденция,  сервис и туриз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76027E6D-44DC-4302-BE6E-AC7740D0D3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108000" y="0"/>
            <a:ext cx="86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3280" y="1700280"/>
          <a:ext cx="4032360" cy="45226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7,0 - 19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яттинский социально-педагог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ски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лжский государ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куйбышевский гуманитарно-технолог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3" name="Picture 87" descr=""/>
          <p:cNvPicPr/>
          <p:nvPr/>
        </p:nvPicPr>
        <p:blipFill>
          <a:blip r:embed="rId1"/>
          <a:srcRect l="6663" t="1728" r="7764" b="7436"/>
          <a:stretch/>
        </p:blipFill>
        <p:spPr>
          <a:xfrm>
            <a:off x="371520" y="1341360"/>
            <a:ext cx="3456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46F592DB-DC9A-49F1-99FB-626E1AE4F3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052640"/>
          <a:ext cx="8785440" cy="5608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9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- 1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государственный колледж сервисных технологий и диза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куйбышевский нефтехимически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кулинарного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соц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колледж искусств и культуры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индустр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дж технического и художественного образ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колледж сервиса производственного обору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олжский строительно-энергетический колледж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ашиностроитель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колледж сервисных технологий и предпринима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гулевский государствен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авиационного и промышленного машиностроения имени Д.И. Коз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социально-эконом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узыкальный колледж им. Р.К.Щед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3100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политехн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ашиностроитель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медико-гуманитар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гиевский губернски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глушицкий государственны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3174FC17-9A9A-4679-9114-861411151A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2920" y="1413000"/>
          <a:ext cx="8785080" cy="47876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382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9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- 1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ий колледж имени Н.Д. Кузнец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ексеевское профессиональное уч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едицин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г. Сыз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2459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политехн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дицинский колледж им. Н. Ляпи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ольский сельскохозяйственны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политехн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города Похвистн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электротехнически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нельский государственны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воростянский государственный техник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армейское профессиональное уч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музыкальное училище им. Д.Г.Шата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2T12:07:34Z</dcterms:created>
  <dc:creator>Юлия В. Ферапонтова</dc:creator>
  <dc:description/>
  <dc:language>en-US</dc:language>
  <cp:lastModifiedBy>GK2</cp:lastModifiedBy>
  <cp:lastPrinted>2019-10-08T16:10:11Z</cp:lastPrinted>
  <dcterms:modified xsi:type="dcterms:W3CDTF">2019-10-09T09:40:31Z</dcterms:modified>
  <cp:revision>159</cp:revision>
  <dc:subject/>
  <dc:title>Анализ работы предметных комиссий Самарской области</dc:title>
</cp:coreProperties>
</file>