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C320-13C1-43FA-B8EF-E0E919FBAF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484C-65FE-4880-B6A0-D16775F8B23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DF7F5-DE38-4048-B978-832EEBA0DF8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6AB9-10AA-485B-BFDF-E49565D71A5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FBE6-4041-497D-9FF9-744434BDF22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923E-140A-43F7-9C06-E045A9918B6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241D-7C46-4DE6-B66F-6E2E58554C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8209-387C-49A3-9EF2-76F383704A5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69D7A-3D64-4D73-AFD5-728AD5B794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0D6DF-8782-41D5-A1BC-5963B86374E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9D07-24E3-4F41-A24A-D1A1E467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B70-0378-4C49-8803-25BA3D98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5088-C4F3-4FC8-81EF-E45216FF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6351-8E8D-47A1-9002-C75FD6D16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D929-B8A1-46A3-808D-FE126C8E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E530-B485-47F6-B4D6-BD459026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2687E-2E5B-4682-B23E-8F736DF00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F54-72A8-45E4-88C1-EABC5933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1C67-D4F9-4150-958D-B948969D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8C6B1-0F0B-4FBD-B475-431744C2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305A-BCFE-4F25-BFC9-5F16EAC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12A-4AB2-4689-B9E8-F45B415F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8091-6EEC-47A0-A0F7-9FA8406B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0280-5E1D-4E13-89D9-0DF172F34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FAAD-019F-4ABC-96EC-EFACB8E53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D391D-529B-4D75-8788-86875C4D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11C0-192B-4A1F-90D2-66A1C8127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40454-D513-4154-A716-77265A0CA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AF279-CAC1-4D06-9134-9FC538E6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B5EE2-8FAF-4A0E-A691-3A9C300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79770-522E-4036-9AE5-9C55021C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57682-061F-4A6B-B876-BC194A6E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EB21-4A1F-4B58-95C5-EBA4ED5A6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9BF68-38B6-4F4E-90EF-08B26178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A40C2-9891-476B-AAB3-4C8A558B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0A2A5-505D-4421-A85E-C4662018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163598-17ED-4F17-9CEB-E28D18C11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ECEA1-7896-4098-B7F7-608F7A8E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8A475-DBE4-441F-8531-CF106BFE3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7F55-8510-4DF6-AE66-582CDE286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F65E4-9EE0-4262-ACD0-C87AB706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D57C7A-9F12-40AB-9BA2-E7AAF870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0B330-893E-4ED6-A189-EE9DBF3A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39FF-E8DC-4CF9-AE96-365CE15F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92D1F-FA67-4ABE-932D-27B8D857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DA32AC-BFDF-4B28-8EB9-AD831C85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D62E0-A0C2-48EF-A64B-FA5874F9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853C0-18F4-4589-A855-FC81C34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0A2D12-90CA-4B3F-9C86-A72F948F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19E7C-EE73-4FD9-AE78-635D75E97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C4B1-1350-4904-9082-994F9F9B9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F329F-573C-451C-9CCA-A78A8295A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566D2-F9C8-425A-A5BD-3EB20768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8AAB-1DB3-4027-87B5-A09056C59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D58-A976-4E1A-AB63-AFA42989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26E6-D706-489D-A0BD-67D9599E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C3D6-3FC2-493F-B665-E4D74020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F47C-BA06-4489-899A-7203F9F1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EAD95-1454-4923-BF34-A7E7D31A0A2A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83241-1433-42D3-BF9B-8F95FDF63D0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6B97-EC85-458D-A9D0-786334926BA1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782-C8DD-41AF-BBB3-6A53395FDE03}" type="slidenum">
              <a:rPr b="0" lang="ru-RU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359560" cy="24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МОДЕЛЬ СИСТЕМЫ ПРОФЕССИОНАЛЬНОГО ОРИЕНТИРОВАНИЯ МОЛОДЁЖИ </a:t>
            </a: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Г.О. ТОЛЬЯТТИ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250920" y="2924280"/>
            <a:ext cx="5976720" cy="19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Галкина Евгения Сергеевна, директор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Тольяттинского центра трудовых ресурсов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5333760"/>
            <a:ext cx="8424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АДРЫ – СФЕРА СОВМЕСТНОЙ ОТВЕТСТВЕННОСТИ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000" y="620640"/>
            <a:ext cx="835164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a304a"/>
                </a:solidFill>
                <a:latin typeface="Century Gothic"/>
              </a:rPr>
              <a:t>Трудоустройство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Мэрия  г.о.Тольятти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Центр занятости населения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Торгово-промышленная палата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Предприятия и организации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a304a"/>
                </a:solidFill>
                <a:latin typeface="Century Gothic"/>
              </a:rPr>
              <a:t>Профессиональное образование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Тольяттинское управление  МОиН СО</a:t>
            </a: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Тольяттинский центр трудовых ресурсов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Центры содействия трудоустройству в УПО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900" spc="-1" strike="noStrike">
                <a:solidFill>
                  <a:srgbClr val="0a304a"/>
                </a:solidFill>
                <a:latin typeface="Century Gothic"/>
              </a:rPr>
              <a:t>Общее образование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Департамент образования мэрии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АУ ДПОС Ресурсный центр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algn="r">
              <a:lnSpc>
                <a:spcPct val="5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a304a"/>
                </a:solidFill>
                <a:latin typeface="Century Gothic"/>
              </a:rPr>
              <a:t>Муниципальные бюджетные учреждения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08000" y="533376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ПЕЦИФИКА  ТЕРРИТОРИАЛЬНОЙ  МОДЕЛИ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50560" y="115920"/>
            <a:ext cx="8713800" cy="48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Активная роль работодателей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Инфраструктурный  подход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Интеграция ресурсов общего и профессионального образования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Автоматизация  основных  процессов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00" y="560988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МОДЕЛЬ СИСТЕМЫ ПРОФОРИЕНТАЦ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6" name="Схема 24" descr=""/>
          <p:cNvPicPr/>
          <p:nvPr/>
        </p:nvPicPr>
        <p:blipFill>
          <a:blip r:embed="rId1"/>
          <a:stretch/>
        </p:blipFill>
        <p:spPr>
          <a:xfrm>
            <a:off x="212760" y="347760"/>
            <a:ext cx="8467560" cy="5271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39"/>
          <p:cNvSpPr/>
          <p:nvPr/>
        </p:nvSpPr>
        <p:spPr>
          <a:xfrm>
            <a:off x="2771640" y="907920"/>
            <a:ext cx="237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Выбор проф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607920" y="4221000"/>
            <a:ext cx="166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2324"/>
                </a:solidFill>
                <a:latin typeface="Arial"/>
                <a:ea typeface="Arial"/>
              </a:rPr>
              <a:t>Планирование</a:t>
            </a:r>
            <a:br>
              <a:rPr sz="1800"/>
            </a:br>
            <a:r>
              <a:rPr b="1" lang="ru-RU" sz="1800" spc="-1" strike="noStrike">
                <a:solidFill>
                  <a:srgbClr val="c62324"/>
                </a:solidFill>
                <a:latin typeface="Arial"/>
                <a:ea typeface="Arial"/>
              </a:rPr>
              <a:t>карь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78920" y="5950080"/>
            <a:ext cx="8317080" cy="111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ТРАЕКТОРИЯ ДВИЖЕНИЯ</a:t>
            </a:r>
            <a:r>
              <a:rPr b="1" lang="ru-RU" sz="29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Rectangle 39"/>
          <p:cNvSpPr/>
          <p:nvPr/>
        </p:nvSpPr>
        <p:spPr>
          <a:xfrm>
            <a:off x="5487840" y="4437000"/>
            <a:ext cx="3633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62324"/>
                </a:solidFill>
                <a:latin typeface="Arial"/>
                <a:ea typeface="Arial"/>
              </a:rPr>
              <a:t>Планирование карьер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39"/>
          <p:cNvSpPr/>
          <p:nvPr/>
        </p:nvSpPr>
        <p:spPr>
          <a:xfrm>
            <a:off x="324000" y="1989000"/>
            <a:ext cx="2511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Выбор проф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Схема 2" descr=""/>
          <p:cNvPicPr/>
          <p:nvPr/>
        </p:nvPicPr>
        <p:blipFill>
          <a:blip r:embed="rId1"/>
          <a:stretch/>
        </p:blipFill>
        <p:spPr>
          <a:xfrm>
            <a:off x="304920" y="542880"/>
            <a:ext cx="8521560" cy="5211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8000" y="533376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РИНЦИПЫ ПОСТРОЕНИЯ СИСТЕМ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50560" y="620640"/>
            <a:ext cx="87138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Запросы РТ – основа планировани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Практическая направленность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Создание мотивации к самостоятельному поиску, осознанному выбору, планированию карьеры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Формирование активной позиции родителей 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Ориентация на результат для каждого выпускника УПО/молодого специалиста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Создание интерактивного информационного поля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46"/>
          <p:cNvSpPr/>
          <p:nvPr/>
        </p:nvSpPr>
        <p:spPr>
          <a:xfrm>
            <a:off x="6932520" y="4208400"/>
            <a:ext cx="1728720" cy="7192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42"/>
          <p:cNvSpPr/>
          <p:nvPr/>
        </p:nvSpPr>
        <p:spPr>
          <a:xfrm>
            <a:off x="415800" y="4237200"/>
            <a:ext cx="220500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9960" y="5876640"/>
            <a:ext cx="88563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Century Gothic"/>
              </a:rPr>
              <a:t>ВЗАИМОДЕЙСТВИЕ НА ТЕРРИТОРИИ ОКРУГА</a:t>
            </a:r>
            <a:br>
              <a:rPr sz="2900"/>
            </a:br>
            <a:br>
              <a:rPr sz="2900"/>
            </a:b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Прямоугольник 8"/>
          <p:cNvSpPr/>
          <p:nvPr/>
        </p:nvSpPr>
        <p:spPr>
          <a:xfrm>
            <a:off x="2935440" y="371520"/>
            <a:ext cx="172872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1830"/>
                </a:solidFill>
                <a:latin typeface="Century Gothic"/>
              </a:rPr>
              <a:t>Тольяттинское управление МОиН С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13"/>
          <p:cNvSpPr/>
          <p:nvPr/>
        </p:nvSpPr>
        <p:spPr>
          <a:xfrm>
            <a:off x="4876920" y="401760"/>
            <a:ext cx="1728720" cy="718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31830"/>
                </a:solidFill>
                <a:latin typeface="Century Gothic"/>
              </a:rPr>
              <a:t>Мэрия</a:t>
            </a:r>
            <a:br>
              <a:rPr sz="1400"/>
            </a:br>
            <a:r>
              <a:rPr b="1" lang="ru-RU" sz="1400" spc="-1" strike="noStrike">
                <a:solidFill>
                  <a:srgbClr val="031830"/>
                </a:solidFill>
                <a:latin typeface="Century Gothic"/>
              </a:rPr>
              <a:t>г.о. Тольят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16"/>
          <p:cNvSpPr/>
          <p:nvPr/>
        </p:nvSpPr>
        <p:spPr>
          <a:xfrm>
            <a:off x="7318440" y="692280"/>
            <a:ext cx="1728720" cy="718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ГУ Центр занятости населе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17"/>
          <p:cNvSpPr/>
          <p:nvPr/>
        </p:nvSpPr>
        <p:spPr>
          <a:xfrm>
            <a:off x="7318440" y="2257560"/>
            <a:ext cx="1728720" cy="718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Торгово-промышленная палат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Прямоугольник 19"/>
          <p:cNvSpPr/>
          <p:nvPr/>
        </p:nvSpPr>
        <p:spPr>
          <a:xfrm>
            <a:off x="3854520" y="4048200"/>
            <a:ext cx="172728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МАУ Бизнес-инкубатор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Прямоугольник 21"/>
          <p:cNvSpPr/>
          <p:nvPr/>
        </p:nvSpPr>
        <p:spPr>
          <a:xfrm>
            <a:off x="334800" y="2265480"/>
            <a:ext cx="197820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Ассоциация учреждений профобраз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22"/>
          <p:cNvSpPr/>
          <p:nvPr/>
        </p:nvSpPr>
        <p:spPr>
          <a:xfrm>
            <a:off x="285840" y="907920"/>
            <a:ext cx="197784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Ассоциация рекрутинговых агентств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Двойная стрелка влево/вправо 28"/>
          <p:cNvSpPr/>
          <p:nvPr/>
        </p:nvSpPr>
        <p:spPr>
          <a:xfrm rot="5400000">
            <a:off x="1114920" y="1907280"/>
            <a:ext cx="507960" cy="55800"/>
          </a:xfrm>
          <a:prstGeom prst="leftRightArrow">
            <a:avLst>
              <a:gd name="adj1" fmla="val 50000"/>
              <a:gd name="adj2" fmla="val 49773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Прямоугольник 45"/>
          <p:cNvSpPr/>
          <p:nvPr/>
        </p:nvSpPr>
        <p:spPr>
          <a:xfrm>
            <a:off x="6861240" y="4135320"/>
            <a:ext cx="1728720" cy="7207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Двойная стрелка влево/вправо 37"/>
          <p:cNvSpPr/>
          <p:nvPr/>
        </p:nvSpPr>
        <p:spPr>
          <a:xfrm rot="2151600">
            <a:off x="2260080" y="1787400"/>
            <a:ext cx="1651320" cy="85680"/>
          </a:xfrm>
          <a:prstGeom prst="leftRightArrow">
            <a:avLst>
              <a:gd name="adj1" fmla="val 50000"/>
              <a:gd name="adj2" fmla="val 50057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Прямоугольник 41"/>
          <p:cNvSpPr/>
          <p:nvPr/>
        </p:nvSpPr>
        <p:spPr>
          <a:xfrm>
            <a:off x="482760" y="4159080"/>
            <a:ext cx="2203200" cy="7192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Прямоугольник 20"/>
          <p:cNvSpPr/>
          <p:nvPr/>
        </p:nvSpPr>
        <p:spPr>
          <a:xfrm>
            <a:off x="547560" y="4065480"/>
            <a:ext cx="2205000" cy="71928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Учебные полигоны, фирмы, малые предприятия в О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Прямоугольник 18"/>
          <p:cNvSpPr/>
          <p:nvPr/>
        </p:nvSpPr>
        <p:spPr>
          <a:xfrm>
            <a:off x="6761160" y="4064040"/>
            <a:ext cx="1755720" cy="718920"/>
          </a:xfrm>
          <a:prstGeom prst="rect">
            <a:avLst/>
          </a:prstGeom>
          <a:solidFill>
            <a:srgbClr val="ffffff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Базовые градообразующие предприят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Двойная стрелка влево/вправо 43"/>
          <p:cNvSpPr/>
          <p:nvPr/>
        </p:nvSpPr>
        <p:spPr>
          <a:xfrm rot="5400000">
            <a:off x="899640" y="3492360"/>
            <a:ext cx="900360" cy="61920"/>
          </a:xfrm>
          <a:prstGeom prst="leftRightArrow">
            <a:avLst>
              <a:gd name="adj1" fmla="val 50000"/>
              <a:gd name="adj2" fmla="val 50017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840" bIns="-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Двойная стрелка влево/вправо 44"/>
          <p:cNvSpPr/>
          <p:nvPr/>
        </p:nvSpPr>
        <p:spPr>
          <a:xfrm rot="19107600">
            <a:off x="5692680" y="1733400"/>
            <a:ext cx="1650960" cy="86040"/>
          </a:xfrm>
          <a:prstGeom prst="leftRightArrow">
            <a:avLst>
              <a:gd name="adj1" fmla="val 50000"/>
              <a:gd name="adj2" fmla="val 49836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Двойная стрелка влево/вправо 47"/>
          <p:cNvSpPr/>
          <p:nvPr/>
        </p:nvSpPr>
        <p:spPr>
          <a:xfrm rot="5400000">
            <a:off x="7372800" y="3444120"/>
            <a:ext cx="819000" cy="68040"/>
          </a:xfrm>
          <a:prstGeom prst="leftRightArrow">
            <a:avLst>
              <a:gd name="adj1" fmla="val 50000"/>
              <a:gd name="adj2" fmla="val 50154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Двойная стрелка влево/вправо 48"/>
          <p:cNvSpPr/>
          <p:nvPr/>
        </p:nvSpPr>
        <p:spPr>
          <a:xfrm>
            <a:off x="5719680" y="4324320"/>
            <a:ext cx="819360" cy="68400"/>
          </a:xfrm>
          <a:prstGeom prst="leftRightArrow">
            <a:avLst>
              <a:gd name="adj1" fmla="val 50000"/>
              <a:gd name="adj2" fmla="val 49912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Двойная стрелка влево/вправо 49"/>
          <p:cNvSpPr/>
          <p:nvPr/>
        </p:nvSpPr>
        <p:spPr>
          <a:xfrm>
            <a:off x="2887560" y="4343400"/>
            <a:ext cx="819360" cy="66600"/>
          </a:xfrm>
          <a:prstGeom prst="leftRightArrow">
            <a:avLst>
              <a:gd name="adj1" fmla="val 50000"/>
              <a:gd name="adj2" fmla="val 50065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Двойная стрелка влево/вправо 50"/>
          <p:cNvSpPr/>
          <p:nvPr/>
        </p:nvSpPr>
        <p:spPr>
          <a:xfrm>
            <a:off x="6732720" y="836640"/>
            <a:ext cx="507960" cy="68400"/>
          </a:xfrm>
          <a:prstGeom prst="leftRightArrow">
            <a:avLst>
              <a:gd name="adj1" fmla="val 50000"/>
              <a:gd name="adj2" fmla="val 49887"/>
            </a:avLst>
          </a:prstGeom>
          <a:solidFill>
            <a:srgbClr val="052f61"/>
          </a:solidFill>
          <a:ln cap="rnd" w="12600">
            <a:solidFill>
              <a:srgbClr val="052f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2240" bIns="-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Двойная стрелка влево/вправо 52"/>
          <p:cNvSpPr/>
          <p:nvPr/>
        </p:nvSpPr>
        <p:spPr>
          <a:xfrm>
            <a:off x="6300720" y="2541600"/>
            <a:ext cx="930240" cy="297000"/>
          </a:xfrm>
          <a:prstGeom prst="leftRightArrow">
            <a:avLst>
              <a:gd name="adj1" fmla="val 50000"/>
              <a:gd name="adj2" fmla="val 49969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Двойная стрелка влево/вправо 53"/>
          <p:cNvSpPr/>
          <p:nvPr/>
        </p:nvSpPr>
        <p:spPr>
          <a:xfrm rot="4003800">
            <a:off x="3589560" y="1635840"/>
            <a:ext cx="1023840" cy="104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Двойная стрелка влево/вправо 54"/>
          <p:cNvSpPr/>
          <p:nvPr/>
        </p:nvSpPr>
        <p:spPr>
          <a:xfrm rot="16810200">
            <a:off x="4996440" y="1646640"/>
            <a:ext cx="1025640" cy="102960"/>
          </a:xfrm>
          <a:prstGeom prst="leftRightArrow">
            <a:avLst>
              <a:gd name="adj1" fmla="val 50000"/>
              <a:gd name="adj2" fmla="val 50130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Двойная стрелка влево/вправо 55"/>
          <p:cNvSpPr/>
          <p:nvPr/>
        </p:nvSpPr>
        <p:spPr>
          <a:xfrm rot="19572600">
            <a:off x="2241720" y="3602160"/>
            <a:ext cx="1023840" cy="1047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Двойная стрелка влево/вправо 56"/>
          <p:cNvSpPr/>
          <p:nvPr/>
        </p:nvSpPr>
        <p:spPr>
          <a:xfrm rot="16200000">
            <a:off x="4483800" y="3759480"/>
            <a:ext cx="269640" cy="77760"/>
          </a:xfrm>
          <a:prstGeom prst="leftRightArrow">
            <a:avLst>
              <a:gd name="adj1" fmla="val 50000"/>
              <a:gd name="adj2" fmla="val 49975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920" bIns="-7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Двойная стрелка влево/вправо 57"/>
          <p:cNvSpPr/>
          <p:nvPr/>
        </p:nvSpPr>
        <p:spPr>
          <a:xfrm rot="2077800">
            <a:off x="6189480" y="3565440"/>
            <a:ext cx="1239840" cy="103320"/>
          </a:xfrm>
          <a:prstGeom prst="leftRightArrow">
            <a:avLst>
              <a:gd name="adj1" fmla="val 50000"/>
              <a:gd name="adj2" fmla="val 49944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Двойная стрелка влево/вправо 58"/>
          <p:cNvSpPr/>
          <p:nvPr/>
        </p:nvSpPr>
        <p:spPr>
          <a:xfrm>
            <a:off x="2365200" y="2557440"/>
            <a:ext cx="1024200" cy="295200"/>
          </a:xfrm>
          <a:prstGeom prst="leftRightArrow">
            <a:avLst>
              <a:gd name="adj1" fmla="val 50000"/>
              <a:gd name="adj2" fmla="val 50019"/>
            </a:avLst>
          </a:prstGeom>
          <a:solidFill>
            <a:srgbClr val="c62324"/>
          </a:solidFill>
          <a:ln cap="rnd" w="12600">
            <a:solidFill>
              <a:srgbClr val="c6232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Скругленный прямоугольник 4"/>
          <p:cNvSpPr/>
          <p:nvPr/>
        </p:nvSpPr>
        <p:spPr>
          <a:xfrm>
            <a:off x="3481560" y="2382840"/>
            <a:ext cx="2565360" cy="1190520"/>
          </a:xfrm>
          <a:prstGeom prst="roundRect">
            <a:avLst>
              <a:gd name="adj" fmla="val 16667"/>
            </a:avLst>
          </a:prstGeom>
          <a:solidFill>
            <a:srgbClr val="052f61"/>
          </a:solidFill>
          <a:ln cap="rnd" w="12600">
            <a:solidFill>
              <a:srgbClr val="032e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Gothic"/>
              </a:rPr>
              <a:t>Тольяттинский центр трудовых ресур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8000" y="533376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РЕЗУЛЬТАТЫ И ЭФФЕКТЫ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765000"/>
            <a:ext cx="87138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Увеличение доли поступающих на обучение по востребованным профессиям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Позитивная динамика выполнения плана приёма в УСПО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Сокращение «группы риска»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a304a"/>
                </a:solidFill>
                <a:latin typeface="Century Gothic"/>
              </a:rPr>
              <a:t>Сокращение количества безработных выпускников УПО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00" y="5609880"/>
            <a:ext cx="8856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МОДЕЛЬ СИСТЕМЫ ПРОФОРИЕНТАЦИИ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48" name="Схема 24" descr=""/>
          <p:cNvPicPr/>
          <p:nvPr/>
        </p:nvPicPr>
        <p:blipFill>
          <a:blip r:embed="rId1"/>
          <a:stretch/>
        </p:blipFill>
        <p:spPr>
          <a:xfrm>
            <a:off x="152280" y="347760"/>
            <a:ext cx="8528040" cy="527184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39"/>
          <p:cNvSpPr/>
          <p:nvPr/>
        </p:nvSpPr>
        <p:spPr>
          <a:xfrm>
            <a:off x="2771640" y="907920"/>
            <a:ext cx="2374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96f"/>
                </a:solidFill>
                <a:latin typeface="Arial"/>
                <a:ea typeface="Arial"/>
              </a:rPr>
              <a:t>Выбор професси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39"/>
          <p:cNvSpPr/>
          <p:nvPr/>
        </p:nvSpPr>
        <p:spPr>
          <a:xfrm>
            <a:off x="3607920" y="4221000"/>
            <a:ext cx="1667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62324"/>
                </a:solidFill>
                <a:latin typeface="Arial"/>
                <a:ea typeface="Arial"/>
              </a:rPr>
              <a:t>Планирование</a:t>
            </a:r>
            <a:br>
              <a:rPr sz="1800"/>
            </a:br>
            <a:r>
              <a:rPr b="1" lang="ru-RU" sz="1800" spc="-1" strike="noStrike">
                <a:solidFill>
                  <a:srgbClr val="c62324"/>
                </a:solidFill>
                <a:latin typeface="Arial"/>
                <a:ea typeface="Arial"/>
              </a:rPr>
              <a:t>карь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3T13:25:03Z</dcterms:created>
  <dc:creator>tumon-kab211</dc:creator>
  <dc:description/>
  <dc:language>en-US</dc:language>
  <cp:lastModifiedBy>днс</cp:lastModifiedBy>
  <dcterms:modified xsi:type="dcterms:W3CDTF">2013-08-15T12:19:59Z</dcterms:modified>
  <cp:revision>112</cp:revision>
  <dc:subject/>
  <dc:title>Слайд 1</dc:title>
</cp:coreProperties>
</file>