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6E545-5751-4F6E-94DE-F8881C617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23DB9-3ACE-4600-B68F-F32F2B3C1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99FE5-7414-4018-9511-EAAEE746C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7D1EB-0F29-4D1E-91FC-8BD7BD33B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37103-3D08-427B-A0FC-4C70EC4B0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09846-CDB6-4114-A31F-F60612554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562B4-8466-4289-938F-D33F94D68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0087E-2FA9-45F1-AE3A-47F1F9D00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C29DD-FEC1-4C18-BB66-A8D53CB12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394C9-D097-4A70-B54E-3A384437D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A6AE8-1DE0-44B3-A790-BE7CAB23B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FD44C-07DA-46EE-90D5-822228FB7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0CDA7-4A92-4282-A009-E25AC282E83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BgLSN10"/>
          <p:cNvPicPr/>
          <p:nvPr/>
        </p:nvPicPr>
        <p:blipFill>
          <a:blip r:embed="rId1"/>
          <a:stretch/>
        </p:blipFill>
        <p:spPr>
          <a:xfrm>
            <a:off x="-457200" y="-457200"/>
            <a:ext cx="10058400" cy="77724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4360" y="1125360"/>
            <a:ext cx="7773840" cy="276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истема организации  предпрофильной подготовки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з опыта работы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БУ СОШ № 9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4"/>
          <p:cNvSpPr/>
          <p:nvPr/>
        </p:nvSpPr>
        <p:spPr>
          <a:xfrm>
            <a:off x="2916360" y="-18720"/>
            <a:ext cx="57592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52488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аждый, кто приходит  в сей мир,  несет в себе призвани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52488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 чтобы раскрыть его, необходимо лишь желани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52488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52488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Д.  Р. Лоул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52488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5" descr="BgLSN10"/>
          <p:cNvPicPr/>
          <p:nvPr/>
        </p:nvPicPr>
        <p:blipFill>
          <a:blip r:embed="rId1"/>
          <a:stretch/>
        </p:blipFill>
        <p:spPr>
          <a:xfrm>
            <a:off x="-304920" y="-304920"/>
            <a:ext cx="10058400" cy="77724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5" descr="BgLSN10"/>
          <p:cNvPicPr/>
          <p:nvPr/>
        </p:nvPicPr>
        <p:blipFill>
          <a:blip r:embed="rId2"/>
          <a:stretch/>
        </p:blipFill>
        <p:spPr>
          <a:xfrm>
            <a:off x="-457200" y="-457200"/>
            <a:ext cx="10058400" cy="777240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4960" y="339840"/>
            <a:ext cx="8074080" cy="617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пременным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условием предпрофильной подготовки является психолого-педагогическое сопровождение учащихс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на всех этапах ее реализации</a:t>
            </a:r>
            <a:br>
              <a:rPr sz="28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6" descr="BgLSN10"/>
          <p:cNvPicPr/>
          <p:nvPr/>
        </p:nvPicPr>
        <p:blipFill>
          <a:blip r:embed="rId1"/>
          <a:stretch/>
        </p:blipFill>
        <p:spPr>
          <a:xfrm>
            <a:off x="-457200" y="-457200"/>
            <a:ext cx="10058400" cy="77724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4" descr="DSC02430"/>
          <p:cNvPicPr/>
          <p:nvPr/>
        </p:nvPicPr>
        <p:blipFill>
          <a:blip r:embed="rId2"/>
          <a:stretch/>
        </p:blipFill>
        <p:spPr>
          <a:xfrm>
            <a:off x="395280" y="404640"/>
            <a:ext cx="4608360" cy="34578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5" descr="DSC02440"/>
          <p:cNvPicPr/>
          <p:nvPr/>
        </p:nvPicPr>
        <p:blipFill>
          <a:blip r:embed="rId3"/>
          <a:srcRect l="0" t="35789" r="0" b="14476"/>
          <a:stretch/>
        </p:blipFill>
        <p:spPr>
          <a:xfrm>
            <a:off x="2484360" y="3860640"/>
            <a:ext cx="6335640" cy="236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8" descr="BgLSN10"/>
          <p:cNvPicPr/>
          <p:nvPr/>
        </p:nvPicPr>
        <p:blipFill>
          <a:blip r:embed="rId1"/>
          <a:stretch/>
        </p:blipFill>
        <p:spPr>
          <a:xfrm>
            <a:off x="-457200" y="-457200"/>
            <a:ext cx="10058400" cy="77724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4" descr="DSC02441"/>
          <p:cNvPicPr/>
          <p:nvPr/>
        </p:nvPicPr>
        <p:blipFill>
          <a:blip r:embed="rId2"/>
          <a:stretch/>
        </p:blipFill>
        <p:spPr>
          <a:xfrm>
            <a:off x="395280" y="404640"/>
            <a:ext cx="3384720" cy="25387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5" descr="DSC02445"/>
          <p:cNvPicPr/>
          <p:nvPr/>
        </p:nvPicPr>
        <p:blipFill>
          <a:blip r:embed="rId3"/>
          <a:srcRect l="0" t="21796" r="0" b="0"/>
          <a:stretch/>
        </p:blipFill>
        <p:spPr>
          <a:xfrm>
            <a:off x="3780000" y="907920"/>
            <a:ext cx="4392360" cy="25750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6" descr="DSC02448"/>
          <p:cNvPicPr/>
          <p:nvPr/>
        </p:nvPicPr>
        <p:blipFill>
          <a:blip r:embed="rId4"/>
          <a:stretch/>
        </p:blipFill>
        <p:spPr>
          <a:xfrm>
            <a:off x="250920" y="3284640"/>
            <a:ext cx="3384360" cy="25383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7" descr="DSC02452"/>
          <p:cNvPicPr/>
          <p:nvPr/>
        </p:nvPicPr>
        <p:blipFill>
          <a:blip r:embed="rId5"/>
          <a:srcRect l="0" t="32119" r="0" b="0"/>
          <a:stretch/>
        </p:blipFill>
        <p:spPr>
          <a:xfrm>
            <a:off x="3635280" y="4149720"/>
            <a:ext cx="4392720" cy="22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8" descr="BgLSN10"/>
          <p:cNvPicPr/>
          <p:nvPr/>
        </p:nvPicPr>
        <p:blipFill>
          <a:blip r:embed="rId1"/>
          <a:stretch/>
        </p:blipFill>
        <p:spPr>
          <a:xfrm>
            <a:off x="-457200" y="-457200"/>
            <a:ext cx="10058400" cy="77724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4" descr="DSC02455"/>
          <p:cNvPicPr/>
          <p:nvPr/>
        </p:nvPicPr>
        <p:blipFill>
          <a:blip r:embed="rId2"/>
          <a:stretch/>
        </p:blipFill>
        <p:spPr>
          <a:xfrm>
            <a:off x="468360" y="549360"/>
            <a:ext cx="3889440" cy="29178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5" descr="DSC02457"/>
          <p:cNvPicPr/>
          <p:nvPr/>
        </p:nvPicPr>
        <p:blipFill>
          <a:blip r:embed="rId3"/>
          <a:stretch/>
        </p:blipFill>
        <p:spPr>
          <a:xfrm>
            <a:off x="4932360" y="549360"/>
            <a:ext cx="3816360" cy="2862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DSC02460"/>
          <p:cNvPicPr/>
          <p:nvPr/>
        </p:nvPicPr>
        <p:blipFill>
          <a:blip r:embed="rId4"/>
          <a:stretch/>
        </p:blipFill>
        <p:spPr>
          <a:xfrm>
            <a:off x="539640" y="3645000"/>
            <a:ext cx="3816360" cy="28620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7" descr="DSC02461"/>
          <p:cNvPicPr/>
          <p:nvPr/>
        </p:nvPicPr>
        <p:blipFill>
          <a:blip r:embed="rId5"/>
          <a:stretch/>
        </p:blipFill>
        <p:spPr>
          <a:xfrm>
            <a:off x="4932360" y="3645000"/>
            <a:ext cx="3816360" cy="28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7" descr="BgLSN10"/>
          <p:cNvPicPr/>
          <p:nvPr/>
        </p:nvPicPr>
        <p:blipFill>
          <a:blip r:embed="rId1"/>
          <a:stretch/>
        </p:blipFill>
        <p:spPr>
          <a:xfrm>
            <a:off x="-457200" y="-457200"/>
            <a:ext cx="10058400" cy="77724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4" descr="DSC02462"/>
          <p:cNvPicPr/>
          <p:nvPr/>
        </p:nvPicPr>
        <p:blipFill>
          <a:blip r:embed="rId2"/>
          <a:stretch/>
        </p:blipFill>
        <p:spPr>
          <a:xfrm>
            <a:off x="468360" y="404640"/>
            <a:ext cx="3527280" cy="26449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5" descr="DSC02463"/>
          <p:cNvPicPr/>
          <p:nvPr/>
        </p:nvPicPr>
        <p:blipFill>
          <a:blip r:embed="rId3"/>
          <a:stretch/>
        </p:blipFill>
        <p:spPr>
          <a:xfrm>
            <a:off x="4932360" y="404640"/>
            <a:ext cx="3529080" cy="26481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6" descr="DSC02465"/>
          <p:cNvPicPr/>
          <p:nvPr/>
        </p:nvPicPr>
        <p:blipFill>
          <a:blip r:embed="rId4"/>
          <a:srcRect l="0" t="24799" r="0" b="0"/>
          <a:stretch/>
        </p:blipFill>
        <p:spPr>
          <a:xfrm>
            <a:off x="1835280" y="3429000"/>
            <a:ext cx="4895640" cy="27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7" descr="BgLSN10"/>
          <p:cNvPicPr/>
          <p:nvPr/>
        </p:nvPicPr>
        <p:blipFill>
          <a:blip r:embed="rId1"/>
          <a:stretch/>
        </p:blipFill>
        <p:spPr>
          <a:xfrm>
            <a:off x="-457200" y="-457200"/>
            <a:ext cx="10058400" cy="77724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4" descr="DSC02481"/>
          <p:cNvPicPr/>
          <p:nvPr/>
        </p:nvPicPr>
        <p:blipFill>
          <a:blip r:embed="rId2"/>
          <a:stretch/>
        </p:blipFill>
        <p:spPr>
          <a:xfrm>
            <a:off x="539640" y="476280"/>
            <a:ext cx="3745080" cy="28083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5" descr="DSC02502"/>
          <p:cNvPicPr/>
          <p:nvPr/>
        </p:nvPicPr>
        <p:blipFill>
          <a:blip r:embed="rId3"/>
          <a:srcRect l="0" t="20532" r="0" b="0"/>
          <a:stretch/>
        </p:blipFill>
        <p:spPr>
          <a:xfrm>
            <a:off x="4356000" y="476280"/>
            <a:ext cx="4608720" cy="28083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6" descr="DSC02507"/>
          <p:cNvPicPr/>
          <p:nvPr/>
        </p:nvPicPr>
        <p:blipFill>
          <a:blip r:embed="rId4"/>
          <a:srcRect l="0" t="44783" r="0" b="0"/>
          <a:stretch/>
        </p:blipFill>
        <p:spPr>
          <a:xfrm>
            <a:off x="1403280" y="3573360"/>
            <a:ext cx="6335640" cy="26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7" descr="BgLSN10"/>
          <p:cNvPicPr/>
          <p:nvPr/>
        </p:nvPicPr>
        <p:blipFill>
          <a:blip r:embed="rId1"/>
          <a:stretch/>
        </p:blipFill>
        <p:spPr>
          <a:xfrm>
            <a:off x="-457200" y="-457200"/>
            <a:ext cx="10058400" cy="77724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4" descr="DSC02513"/>
          <p:cNvPicPr/>
          <p:nvPr/>
        </p:nvPicPr>
        <p:blipFill>
          <a:blip r:embed="rId2"/>
          <a:srcRect l="0" t="20773" r="0" b="0"/>
          <a:stretch/>
        </p:blipFill>
        <p:spPr>
          <a:xfrm>
            <a:off x="468360" y="476280"/>
            <a:ext cx="4174920" cy="24811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5" descr="DSC02520"/>
          <p:cNvPicPr/>
          <p:nvPr/>
        </p:nvPicPr>
        <p:blipFill>
          <a:blip r:embed="rId3"/>
          <a:stretch/>
        </p:blipFill>
        <p:spPr>
          <a:xfrm>
            <a:off x="5219640" y="476280"/>
            <a:ext cx="3313080" cy="24861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" descr="DSC02527"/>
          <p:cNvPicPr/>
          <p:nvPr/>
        </p:nvPicPr>
        <p:blipFill>
          <a:blip r:embed="rId4"/>
          <a:srcRect l="0" t="30482" r="0" b="0"/>
          <a:stretch/>
        </p:blipFill>
        <p:spPr>
          <a:xfrm>
            <a:off x="1619280" y="3213000"/>
            <a:ext cx="5759280" cy="300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5" descr="BgLSN10"/>
          <p:cNvPicPr/>
          <p:nvPr/>
        </p:nvPicPr>
        <p:blipFill>
          <a:blip r:embed="rId1"/>
          <a:stretch/>
        </p:blipFill>
        <p:spPr>
          <a:xfrm>
            <a:off x="-457200" y="-457200"/>
            <a:ext cx="10058400" cy="777240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95280" y="274320"/>
            <a:ext cx="8291520" cy="617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ыбор профессионального пути- это глубокий внутриличностный процесс.  Влиять на него мы можем через создание образовательного пространства, в котором сделать первый взрослый выбор для большинства девятиклассников становится  возможны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4" descr="цветок 142"/>
          <p:cNvPicPr/>
          <p:nvPr/>
        </p:nvPicPr>
        <p:blipFill>
          <a:blip r:embed="rId1"/>
          <a:stretch/>
        </p:blipFill>
        <p:spPr>
          <a:xfrm>
            <a:off x="0" y="-38160"/>
            <a:ext cx="9685440" cy="6896160"/>
          </a:xfrm>
          <a:prstGeom prst="rect">
            <a:avLst/>
          </a:prstGeom>
          <a:ln w="0">
            <a:noFill/>
          </a:ln>
        </p:spPr>
      </p:pic>
      <p:sp>
        <p:nvSpPr>
          <p:cNvPr id="99" name="Text Box 5"/>
          <p:cNvSpPr/>
          <p:nvPr/>
        </p:nvSpPr>
        <p:spPr>
          <a:xfrm>
            <a:off x="395280" y="476280"/>
            <a:ext cx="8748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WordArt 6"/>
          <p:cNvSpPr txBox="1"/>
          <p:nvPr/>
        </p:nvSpPr>
        <p:spPr>
          <a:xfrm>
            <a:off x="1042920" y="404640"/>
            <a:ext cx="7763040" cy="4535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12520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Arial"/>
              </a:rPr>
              <a:t>Благодарю за внимание!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5" descr="BgLSN10"/>
          <p:cNvPicPr/>
          <p:nvPr/>
        </p:nvPicPr>
        <p:blipFill>
          <a:blip r:embed="rId1"/>
          <a:stretch/>
        </p:blipFill>
        <p:spPr>
          <a:xfrm>
            <a:off x="-457200" y="-457200"/>
            <a:ext cx="10058400" cy="77724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03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оздание </a:t>
            </a:r>
            <a:r>
              <a:rPr b="0" lang="ru-RU" sz="4400" spc="-1" strike="noStrike" u="sng">
                <a:solidFill>
                  <a:srgbClr val="000000"/>
                </a:solidFill>
                <a:uFillTx/>
                <a:latin typeface="Arial"/>
              </a:rPr>
              <a:t>образовательного пространства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для осуществления предварительного самоопределения является целью предпрофильной подготовки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6" descr="BgLSN10"/>
          <p:cNvPicPr/>
          <p:nvPr/>
        </p:nvPicPr>
        <p:blipFill>
          <a:blip r:embed="rId1"/>
          <a:stretch/>
        </p:blipFill>
        <p:spPr>
          <a:xfrm>
            <a:off x="-457200" y="-457200"/>
            <a:ext cx="10058400" cy="77724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-360" y="476280"/>
            <a:ext cx="8604360" cy="56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«Предпрофильная подготовка представляет собой </a:t>
            </a:r>
            <a:r>
              <a:rPr b="0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систему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едагогической, психологической, информационной и организационной </a:t>
            </a:r>
            <a:r>
              <a:rPr b="0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поддержки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учащихся основной школы, содействующей их самоопределению по завершению общего образования»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BgLSN10"/>
          <p:cNvPicPr/>
          <p:nvPr/>
        </p:nvPicPr>
        <p:blipFill>
          <a:blip r:embed="rId1"/>
          <a:stretch/>
        </p:blipFill>
        <p:spPr>
          <a:xfrm>
            <a:off x="-457200" y="-457200"/>
            <a:ext cx="10058400" cy="77724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18440" cy="128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редпрофильная подготовка содержит четыре блока: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2400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Информационная работа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Диагностическая работа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Профессиональные пробы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Проектная деятельность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5" descr="BgLSN10"/>
          <p:cNvPicPr/>
          <p:nvPr/>
        </p:nvPicPr>
        <p:blipFill>
          <a:blip r:embed="rId1"/>
          <a:stretch/>
        </p:blipFill>
        <p:spPr>
          <a:xfrm>
            <a:off x="-304920" y="-304920"/>
            <a:ext cx="10058400" cy="77724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Информационная рабо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)Курс «Самоопределение»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)Декада профориентаци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фигра «Перспектива»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матические классные час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стречи с представителями учебных заведений, со студентами (выпускниками школы), круглые стол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стречи с родителями- представителями различных професси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кскурсии на производства город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накомство с информационными стендами в пространстве школы, интернет-ресурсы, СМИ и т.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5" descr="BgLSN10"/>
          <p:cNvPicPr/>
          <p:nvPr/>
        </p:nvPicPr>
        <p:blipFill>
          <a:blip r:embed="rId1"/>
          <a:stretch/>
        </p:blipFill>
        <p:spPr>
          <a:xfrm>
            <a:off x="-304920" y="-304920"/>
            <a:ext cx="10058400" cy="77724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иагностическая рабо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иагностические мероприятия,  направленные на самопознание учащих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ходная и выходная диагностика уровня сформированности профплана девятиклассни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5" descr="BgLSN10"/>
          <p:cNvPicPr/>
          <p:nvPr/>
        </p:nvPicPr>
        <p:blipFill>
          <a:blip r:embed="rId1"/>
          <a:stretch/>
        </p:blipFill>
        <p:spPr>
          <a:xfrm>
            <a:off x="-304920" y="-304920"/>
            <a:ext cx="10058400" cy="77724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рофессиональные проб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ля выбора школьникам предложено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207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курсо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аждый девятиклассник посетил три курса по выбору (33 часа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971640" y="3848040"/>
          <a:ext cx="7056360" cy="2819520"/>
        </p:xfrm>
        <a:graphic>
          <a:graphicData uri="http://schemas.openxmlformats.org/drawingml/2006/table">
            <a:tbl>
              <a:tblPr/>
              <a:tblGrid>
                <a:gridCol w="2952720"/>
                <a:gridCol w="1942920"/>
                <a:gridCol w="2160720"/>
              </a:tblGrid>
              <a:tr h="604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1-20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2-20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-во уч-с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9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-во курсо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-во О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5" descr="BgLSN10"/>
          <p:cNvPicPr/>
          <p:nvPr/>
        </p:nvPicPr>
        <p:blipFill>
          <a:blip r:embed="rId1"/>
          <a:stretch/>
        </p:blipFill>
        <p:spPr>
          <a:xfrm>
            <a:off x="-304920" y="-304920"/>
            <a:ext cx="10058400" cy="77724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ведение АИС существенно повлияло на всю систему организации предпрофильной подготовки в город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начительно выросла удовлетворенность выбором курсов у школьник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отзывам девятиклассников, улучшилось и качество проведения курс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вятиклассники смогли осуществлять выбор курсов вместе с родителям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росла удовлетворенность родителе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ведение усовершенствованной системы позволило свести к минимуму негативные  вторжения в образовательный процесс, соответственно выросла удовлетворенность педагог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ся система стала более прозрачной, приобрела признаки самоорганиза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рофессиональные проб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5" descr="BgLSN10"/>
          <p:cNvPicPr/>
          <p:nvPr/>
        </p:nvPicPr>
        <p:blipFill>
          <a:blip r:embed="rId1"/>
          <a:stretch/>
        </p:blipFill>
        <p:spPr>
          <a:xfrm>
            <a:off x="-304920" y="-304920"/>
            <a:ext cx="10058400" cy="777240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роектная деятельность. Результа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395280" y="1700280"/>
          <a:ext cx="8569440" cy="3186000"/>
        </p:xfrm>
        <a:graphic>
          <a:graphicData uri="http://schemas.openxmlformats.org/drawingml/2006/table">
            <a:tbl>
              <a:tblPr/>
              <a:tblGrid>
                <a:gridCol w="1008000"/>
                <a:gridCol w="924120"/>
                <a:gridCol w="691920"/>
                <a:gridCol w="927360"/>
                <a:gridCol w="806400"/>
                <a:gridCol w="1152360"/>
                <a:gridCol w="1027080"/>
                <a:gridCol w="1024200"/>
                <a:gridCol w="1008000"/>
              </a:tblGrid>
              <a:tr h="11523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-во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-кл., подгот.  проек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 работ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 направлениям  исследов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ичество работ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формам представлени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52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уп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ек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д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ек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"Мои ориенти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"Соврем ситуац"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"Профессия  родителей…."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фера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"Пор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лио"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eb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сай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0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9 (100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(16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5(59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(25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8T08:03:56Z</dcterms:created>
  <dc:creator>gma</dc:creator>
  <dc:description/>
  <dc:language>en-US</dc:language>
  <cp:lastModifiedBy>gma</cp:lastModifiedBy>
  <dcterms:modified xsi:type="dcterms:W3CDTF">2013-08-14T05:49:38Z</dcterms:modified>
  <cp:revision>66</cp:revision>
  <dc:subject/>
  <dc:title>ПЕРВЫЕ ШАГИ К ПРОФЕССИОНАЛЬНОЙ САМОРЕАЛИЗАЦИИ</dc:title>
</cp:coreProperties>
</file>