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DCA-E005-4DB4-ADB1-238D5F2F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5D1-AADF-486E-B097-546CD163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6D90-8A36-4B32-B4FE-935BA5D9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D15-CA2D-4382-B936-9625DF11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84EA-3F17-474E-A536-DE8AF19B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21DF-CCB0-4AAA-8703-D0F68783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855A-B464-4E7D-8F2D-E1C57E61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EFF2-3032-4590-8972-1EE7866B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17B6-8526-4314-B477-F3931036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B680-D16E-4DEB-B9DB-6155DBEC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B6F6-A514-4F46-9DC2-172F6F1F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DCE7-5D28-456C-A26E-4726C4CF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84AC-C9FB-4915-BFC3-E9EEB665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45AE-BD3E-4D02-8666-346025EC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EC42-BB39-47E3-A7EB-83748867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AB04-B2BD-4148-8CBC-0E51D3BF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09BD-4FA7-47F9-81E5-8773FB81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72C60-FD31-41D4-AD29-22671BC3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28348-74B9-47FD-B677-7B38DECB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9F5DC-744F-449A-96C6-DED900E7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1A0C3-D02C-42F3-8D6C-FB186E16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8DD3F-3629-410A-93A2-81A693CC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DAE-C49A-43FB-816B-1E5FC9D1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FBC6A-C665-4CD6-9ECC-BC87CDCA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5D8DE-7223-4B68-926D-C5491E38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0EF37-08C9-4016-AC93-46D9CD02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4A614-FE32-4460-8CC3-E158F7FE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87422-B6FF-485D-BB51-75C892EA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C3CD1-045A-48A4-9F38-2E6D77CE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60B99-CCBA-4629-9DF4-14025063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14AC1-8C3C-4619-9885-323DDCE1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82F82-80C5-4AC4-A1EB-A05721A1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CD091-F0E9-44C8-AD58-E58A18DE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1F8-7E81-4E59-9809-2E1AA5B2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B1BA2-95DC-43DE-9119-9B3BFCF2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9166E-AB81-4371-88EF-32527CDC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924D0-644E-41DB-9930-AF7F893B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438CB-445A-4713-B2EF-EF864164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D985E-8444-4649-ACC8-9DF1A513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58015-B97F-4CC8-9892-1AAF256B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E6FF4-F2E4-4D19-A5EA-742A66A3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D0014-68D7-4A95-B1C9-572F920A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0315B-1CAE-4FF8-88B8-925C63D7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662EA-D069-4B95-B1B8-BA171EE3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382F-291A-4C88-8162-904DC19F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5A38C-5BC8-49CE-B0A3-CC16C311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AC8C4-78C1-4523-941C-08EA0D6A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00982-F521-41C3-9EC3-9CACC634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9BDD6-7B2A-45CE-A891-ABF11FB6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3D546-10D1-4713-ADE0-132E458A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50C30-07ED-4AD5-8BD5-C3B294F1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4AE8E-12F6-4B5D-ABA6-07049071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151CF-C3AC-4D5B-BBB5-18B96FA3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4109E-FC3A-4BF7-A605-1978EDEA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09B83-5A08-4AFE-BAA6-EAE71D24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005F-CC88-418B-B125-466C29CB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E897F-A311-413F-B618-9AE8F9FA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1CAC6-8D0A-42A1-AADA-4CA75C65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B74C9-F813-4CC5-A438-D330A79C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4713F-0B66-4B96-A925-A46E11C3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C9B0A-6C00-4647-8440-476ADC08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48AE6-D094-49BC-88E3-344C51F2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6E52F-FDBB-4642-8359-8E616872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33386-D485-419E-8BDE-1CA8F773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C2E77-6450-451B-A53A-40461F17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91FE6-FE61-41BF-AA37-CF11EB9A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94D-4D6F-48B2-984D-6D072927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8B4D0-8FA2-46E1-A966-1A9C1A0B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4C10B-1864-4833-9776-40238872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8F0BC-18C6-422B-841D-FF372C77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01F0-EBBC-45E3-A42A-765C7042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BEAE-3AC8-4475-AD6E-691C2696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9DAC-2D06-4AA1-BF53-E0109716F4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C39B-F304-4431-BB42-59C38B1294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91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92E7-B3F4-45AB-967F-5EEC34E9BA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9671-8403-41C0-A418-391BFCD3DF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81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5BAE-08E1-4237-A30C-1B8A02B723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2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D6A3-7B43-4FAB-BDC9-CB3632AB4B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02920" y="836640"/>
            <a:ext cx="71247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егулирование подготовки в системе профессионального  образования на основе прогноза кадровых потребностей экономического развития региона</a:t>
            </a:r>
            <a:br>
              <a:rPr sz="3200"/>
            </a:br>
            <a:br>
              <a:rPr sz="3200"/>
            </a:b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Механизмы и инструменты управления системой подготовки кадров в условиях быстроменяющейся конъюнктуры рынка труда</a:t>
            </a:r>
            <a:br>
              <a:rPr sz="1200"/>
            </a:br>
            <a:br>
              <a:rPr sz="3200"/>
            </a:b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Rectangle 133"/>
          <p:cNvSpPr/>
          <p:nvPr/>
        </p:nvSpPr>
        <p:spPr>
          <a:xfrm>
            <a:off x="1476360" y="620640"/>
            <a:ext cx="7124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Способы оценки перспективной (прогнозной) востребованности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гнозная востребованность работников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– собственные оценки работодателей + выбытие в связи с уходом на пенсию (данные взвешены по численности занятых в отраслевых группах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гнозное обновление персонала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– естественное 4%-е обновление без учета выбытия в связи с уходом на пенсию (данные взвешены по отраслевым группам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07640" y="301680"/>
            <a:ext cx="677556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Форма представления результатов прогноза по уровням профессионального образования и профессиям, специальностям подготовки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5" name="Line 137"/>
          <p:cNvSpPr/>
          <p:nvPr/>
        </p:nvSpPr>
        <p:spPr>
          <a:xfrm>
            <a:off x="1050840" y="2311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900000" y="1484280"/>
          <a:ext cx="8064720" cy="2819520"/>
        </p:xfrm>
        <a:graphic>
          <a:graphicData uri="http://schemas.openxmlformats.org/drawingml/2006/table">
            <a:tbl>
              <a:tblPr/>
              <a:tblGrid>
                <a:gridCol w="947160"/>
                <a:gridCol w="216000"/>
                <a:gridCol w="2363400"/>
                <a:gridCol w="890280"/>
                <a:gridCol w="845640"/>
                <a:gridCol w="845640"/>
                <a:gridCol w="846000"/>
                <a:gridCol w="1110600"/>
              </a:tblGrid>
              <a:tr h="398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д професс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професс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численности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чих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мест в экономи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жегодная прогнозная востребова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атель ежегодного обновления персон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2014 го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2017 го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 2020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фессии начального профессиональног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31601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гент реклам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3470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кретар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34700,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хивариу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34700,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лопроизводител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0401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циальный работн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60501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ладшая медицинская сестра по уходу за больны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250920" y="4260960"/>
          <a:ext cx="8353440" cy="2579400"/>
        </p:xfrm>
        <a:graphic>
          <a:graphicData uri="http://schemas.openxmlformats.org/drawingml/2006/table">
            <a:tbl>
              <a:tblPr/>
              <a:tblGrid>
                <a:gridCol w="922320"/>
                <a:gridCol w="2462040"/>
                <a:gridCol w="922320"/>
                <a:gridCol w="876240"/>
                <a:gridCol w="1038240"/>
                <a:gridCol w="982800"/>
                <a:gridCol w="1149480"/>
              </a:tblGrid>
              <a:tr h="2440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д специа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специа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численности рабочих мест в экономи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жегодная прогнозная востребова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атель ежегодного обновления персон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70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2014 го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2017 го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 2020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7"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ьности среднего профессиональног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213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р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309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во и организация социального обеспеч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31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316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кла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5280" y="301320"/>
            <a:ext cx="856944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Предложения по организации системы прогнозирования кадровых потребностей экономики как механизма формирования регионального заказа на подготовку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адров в учреждениях профессионального образования Самарской области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Прямоугольник 2"/>
          <p:cNvSpPr/>
          <p:nvPr/>
        </p:nvSpPr>
        <p:spPr>
          <a:xfrm>
            <a:off x="611280" y="1484280"/>
            <a:ext cx="85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ординатором и утверждающим органом выступае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егиональный совет по кадровой политике при Правительстве Самар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484200" y="2087640"/>
            <a:ext cx="813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ветственный исполнител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нистерство образования и науки Самарской област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Прямоугольник 4"/>
          <p:cNvSpPr/>
          <p:nvPr/>
        </p:nvSpPr>
        <p:spPr>
          <a:xfrm>
            <a:off x="179280" y="2924280"/>
            <a:ext cx="88567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частники системы прогнозировани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инистерство труда, занятости и миграционной политики Самарской област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инистерство экономического развития, инвестиций и торговли Самарской области (Департамент прогнозирования и стратегического планирования развития региона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инистерство социально-демографической и семейной политики Самарской обла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инистерство промышленности и технологий Самарской обла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инистерство энергетики и жилищно-коммунального хозяйства Самарской обла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инистерство сельского хозяйства и продовольствия Самарской обла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инистерство строительства Самарской област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инистерство транспорта и автомобильных дорог Самарской обла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инистерство культуры Самарской обла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инистерство здравоохранения Самарской обла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егиональный орган Федеральной службы государственной статистики по Самарской област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правление Федеральной миграционной службы по Самарской област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егиональное объединение работодателей «Союз работодателей Самарской области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оргово-промышленная палата Самарской обла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6756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Дорожная карта по формированию регионального заказа на подготовку кадров на основе среднесрочного прогнозирования кадровых потребностей рынка труда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900000" y="1052640"/>
          <a:ext cx="7993080" cy="5805360"/>
        </p:xfrm>
        <a:graphic>
          <a:graphicData uri="http://schemas.openxmlformats.org/drawingml/2006/table">
            <a:tbl>
              <a:tblPr/>
              <a:tblGrid>
                <a:gridCol w="3487680"/>
                <a:gridCol w="2025720"/>
                <a:gridCol w="1627200"/>
                <a:gridCol w="852480"/>
              </a:tblGrid>
              <a:tr h="48420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рабо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ител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ь информ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испол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 gridSpan="3"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Анализ спроса и предложения на рынке труда и рынке образовательных услуг в регио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едоставление информации о численности занятых в отраслях экономики, образовательной  и профессионально-квалификационной структуре занятых в экономи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орган Федеральной службы государственной статис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разования и нау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а начало год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Анализ численности и состава безработных (в том числе выпускников учреждений профессионального образования) и вакансиях службы занят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труда, занятости и миграционной полити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разования и нау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а начало год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 итогах социально-экономического развития Самарской области за прошедший год и основных задачах Правительства Самарской области на текущий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экономического развития, инвестиций и торгов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разования и нау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рогноз социально-экономического развития Самарской области на очередной финансовый год и плановы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экономического развития, инвестиций и торгов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разования и нау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оценка перспектив демографической, семейно-брачной ситуации в регио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социально-демографической и семейной поли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разования и нау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предоставление данных о трудовой миграции и анализ миграционных процесс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Федеральной службы миграционной служб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разования и нау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Анализ ресурсов региональной системы профессионально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разования и нау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участ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гус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Сопоставление кадровых и квалификационных потребностей регионального рынка труда и возможностей региональной системы профессионально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разования и нау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совет по кадровой полити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6756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Дорожная карта по формированию регионального заказа на подготовку кадров на основе среднесрочного прогнозирования кадровых потребностей рынка труда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900000" y="1557360"/>
          <a:ext cx="7783560" cy="5111640"/>
        </p:xfrm>
        <a:graphic>
          <a:graphicData uri="http://schemas.openxmlformats.org/drawingml/2006/table">
            <a:tbl>
              <a:tblPr/>
              <a:tblGrid>
                <a:gridCol w="3395880"/>
                <a:gridCol w="1973160"/>
                <a:gridCol w="1584360"/>
                <a:gridCol w="830160"/>
              </a:tblGrid>
              <a:tr h="231840">
                <a:tc gridSpan="3"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гнозирование кадровых потребностей регионального рынка труда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 раз в 2-3 год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рабо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ител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ь информ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испол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азработка (корректировка) методики прогнозировании кадровых потребностей экономики и инструментар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разования и науки (ЦПО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совет по кадровой политике (на утверждение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едоставление адресной информации о хозяйствующих субъектов в экономике реги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орган Федеральной службы государственной статис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разования и нау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нформационная поддержка участия хозяйствующих субъектов региона в представлении данных о перспективных потребностях в кадр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юз работодателей Самарской области, Торгово-промышленная палата Самарской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ующие субъек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бор данных от работодателей, организация ввода и обеспечение сохранности дан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разования и науки (Ресурсные центр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разования и науки (ЦПО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Определение необходимого уровня профессионального образования и квалификации для обследованных рабочих мест и составлении прогноза кадровых потребностей на среднесрочную перспектив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разования и науки (ЦПО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разования и нау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гу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Анализ долгосрочных тенденций развития структуры рабочих мест на предприятиях реги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сайт всех участников (Министерство образования и наук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совет по кадровой полити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6756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Дорожная карта по формированию регионального заказа на подготовку кадров на основе среднесрочного прогнозирования кадровых потребностей рынка труда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900000" y="1557360"/>
          <a:ext cx="7783560" cy="5113440"/>
        </p:xfrm>
        <a:graphic>
          <a:graphicData uri="http://schemas.openxmlformats.org/drawingml/2006/table">
            <a:tbl>
              <a:tblPr/>
              <a:tblGrid>
                <a:gridCol w="3395880"/>
                <a:gridCol w="1973160"/>
                <a:gridCol w="1584360"/>
                <a:gridCol w="830160"/>
              </a:tblGrid>
              <a:tr h="231840">
                <a:tc gridSpan="3"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Формирование заказа на подготовку кадров на основе прогноза кадровых потребностей экономик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рабо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ител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ь информ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испол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едоставление среднесрочного прогноза кадровых потребностей региона и предварительных контрольных цифр приема в учреждения профессионально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разования и нау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участ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орректировка контрольных цифр приема в учреждения профессионально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участ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разования и нау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Утверждение объемных (количественных) показателей заказа на подготовку кадров в региональной системе профессионального образования за счет средств регионального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разования и нау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совет по кадровой полити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 gridSpan="3"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Размещение заказа на подготовку кадров в учреждениях профессионального образ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азработка процедуры конкурсного размещения Заказа на подготовку кад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разования и нау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едомственные учреждения профессио-нально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бор заявок и организация конкурса на подготовку кад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едомственные учреждения профессионально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разования и нау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огласование и утверждение контрольных цифр приема в подведомственных учреждениях профессионально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разования и нау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совет по кадровой политике (на утверждение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огнозирование кадровых потребностей экономики на региональном уровне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24000" y="1557360"/>
          <a:ext cx="8648640" cy="5205240"/>
        </p:xfrm>
        <a:graphic>
          <a:graphicData uri="http://schemas.openxmlformats.org/drawingml/2006/table">
            <a:tbl>
              <a:tblPr/>
              <a:tblGrid>
                <a:gridCol w="934920"/>
                <a:gridCol w="1581120"/>
                <a:gridCol w="1198440"/>
                <a:gridCol w="1239840"/>
                <a:gridCol w="1295640"/>
                <a:gridCol w="1382760"/>
                <a:gridCol w="101592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 прогн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экономического развития, инвестиций и торгов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партамент труда и занят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орган Федеральной службы государственной статистики по Самарск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ерство образования и нау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дровые агент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ика макроэкономических показателей и сценарные условия соц.-эк.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ращений, численность и состав безработных, вакан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рождаемости, смертности, миграционный прир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работников, прием, выбы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рабочих мест, требования работод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ольнения, массовые высвобождения, заявления о най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ализация прогн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слевой, территориальный  разр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ной, территориальный разрез, социальный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ной, территориальный разр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слевой разр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разр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разр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ина прогн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о, 3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лет и боле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ода и 5-6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года (сезонно, кварта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прогноз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занятых, экономически активного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, квалификация безрабо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занятых, эк. актив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и профессиональная квалифик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я заем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, резуль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трудовых ресурсов, уровень экономической активности, обеспечение инвестиционной актив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безработицы, возвращение в состояние занятости, бюджетная обеспеченность незанят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человеческих ресур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честь и оборот кадров, дополнительная потребность в работни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 студентов на обучение и профессиональное 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ы привлеченной и заемной рабочей си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Rectangle 650"/>
          <p:cNvSpPr/>
          <p:nvPr/>
        </p:nvSpPr>
        <p:spPr>
          <a:xfrm>
            <a:off x="1476360" y="1052640"/>
            <a:ext cx="7313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(существующие практики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301320"/>
            <a:ext cx="785664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Характер существующих статистических данных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2" name="Picture 4" descr="ВЗАИМОСВЯЗЬ ПОКАЗАТЕЛЕЙ ПРОГНОЗА БАЛАНСА ТРУДОВЫХ РЕСУРСОВ"/>
          <p:cNvPicPr/>
          <p:nvPr/>
        </p:nvPicPr>
        <p:blipFill>
          <a:blip r:embed="rId1"/>
          <a:stretch/>
        </p:blipFill>
        <p:spPr>
          <a:xfrm>
            <a:off x="971640" y="1773360"/>
            <a:ext cx="7956360" cy="475128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389"/>
          <p:cNvSpPr/>
          <p:nvPr/>
        </p:nvSpPr>
        <p:spPr>
          <a:xfrm>
            <a:off x="1116000" y="1773360"/>
            <a:ext cx="5256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02920" y="836640"/>
            <a:ext cx="71247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егулирование подготовки в системе профессионального  образования на основе прогноза кадровых потребностей экономического развития региона</a:t>
            </a:r>
            <a:br>
              <a:rPr sz="3200"/>
            </a:br>
            <a:br>
              <a:rPr sz="3200"/>
            </a:b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Механизмы и инструменты управления системой подготовки кадров в условиях быстроменяющейся конъюнктуры рынка труда</a:t>
            </a:r>
            <a:br>
              <a:rPr sz="1200"/>
            </a:br>
            <a:br>
              <a:rPr sz="3200"/>
            </a:b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Rectangle 133"/>
          <p:cNvSpPr/>
          <p:nvPr/>
        </p:nvSpPr>
        <p:spPr>
          <a:xfrm>
            <a:off x="1476360" y="620640"/>
            <a:ext cx="7124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j0240697"/>
          <p:cNvPicPr/>
          <p:nvPr/>
        </p:nvPicPr>
        <p:blipFill>
          <a:blip r:embed="rId1"/>
          <a:stretch/>
        </p:blipFill>
        <p:spPr>
          <a:xfrm>
            <a:off x="611280" y="333360"/>
            <a:ext cx="1319040" cy="18255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3635280" y="4221000"/>
            <a:ext cx="5042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2359080" y="1104480"/>
            <a:ext cx="5975280" cy="36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Эффекты регулир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подготовки в системе профессионального образования на основе прогноз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кадровых потребностей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экономики  регио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Схема 4" descr=""/>
          <p:cNvPicPr/>
          <p:nvPr/>
        </p:nvPicPr>
        <p:blipFill>
          <a:blip r:embed="rId1"/>
          <a:stretch/>
        </p:blipFill>
        <p:spPr>
          <a:xfrm>
            <a:off x="334800" y="1500120"/>
            <a:ext cx="8832960" cy="52182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3"/>
          <p:cNvSpPr/>
          <p:nvPr/>
        </p:nvSpPr>
        <p:spPr>
          <a:xfrm>
            <a:off x="1476360" y="620640"/>
            <a:ext cx="7124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Прямоугольник 3"/>
          <p:cNvSpPr/>
          <p:nvPr/>
        </p:nvSpPr>
        <p:spPr>
          <a:xfrm>
            <a:off x="214200" y="28584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6565"/>
                </a:solidFill>
                <a:latin typeface="Arial"/>
              </a:rPr>
              <a:t>Базовые элементы региональной модели регулирования взаимодействия рынка труда и системы профессионального                  образова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0" y="-5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0" name="Object 6"/>
          <p:cNvGraphicFramePr/>
          <p:nvPr/>
        </p:nvGraphicFramePr>
        <p:xfrm>
          <a:off x="1116000" y="333360"/>
          <a:ext cx="4680000" cy="20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33360"/>
                    <a:ext cx="468000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8"/>
          <p:cNvSpPr/>
          <p:nvPr/>
        </p:nvSpPr>
        <p:spPr>
          <a:xfrm>
            <a:off x="1800" y="191412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3" name="Object 5"/>
          <p:cNvGraphicFramePr/>
          <p:nvPr/>
        </p:nvGraphicFramePr>
        <p:xfrm>
          <a:off x="2411280" y="2421000"/>
          <a:ext cx="4800600" cy="22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2421000"/>
                    <a:ext cx="480060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Rectangle 9"/>
          <p:cNvSpPr/>
          <p:nvPr/>
        </p:nvSpPr>
        <p:spPr>
          <a:xfrm>
            <a:off x="0" y="469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6" name="Object 4"/>
          <p:cNvGraphicFramePr/>
          <p:nvPr/>
        </p:nvGraphicFramePr>
        <p:xfrm>
          <a:off x="4067280" y="4724280"/>
          <a:ext cx="5076720" cy="200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7280" y="4724280"/>
                    <a:ext cx="5076720" cy="20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11"/>
          <p:cNvSpPr/>
          <p:nvPr/>
        </p:nvSpPr>
        <p:spPr>
          <a:xfrm>
            <a:off x="5867280" y="279360"/>
            <a:ext cx="3276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Verdana"/>
              </a:rPr>
              <a:t>Динамика соотношения объемов подготовки и востребованности специалисто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Verdana"/>
              </a:rPr>
              <a:t>на рынке труда Самарской обла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0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Последовательность шагов по формированию регионального заказа на подготовку специалистов на основе среднесрочного прогнозирования кадровых потребностей рынка труда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76" name="Group 120"/>
          <p:cNvGrpSpPr/>
          <p:nvPr/>
        </p:nvGrpSpPr>
        <p:grpSpPr>
          <a:xfrm>
            <a:off x="179280" y="1197000"/>
            <a:ext cx="8785440" cy="5400720"/>
            <a:chOff x="179280" y="1197000"/>
            <a:chExt cx="8785440" cy="5400720"/>
          </a:xfrm>
        </p:grpSpPr>
        <p:sp>
          <p:nvSpPr>
            <p:cNvPr id="277" name="AutoShape 121"/>
            <p:cNvSpPr/>
            <p:nvPr/>
          </p:nvSpPr>
          <p:spPr>
            <a:xfrm>
              <a:off x="179280" y="1197000"/>
              <a:ext cx="8785440" cy="54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122"/>
            <p:cNvSpPr/>
            <p:nvPr/>
          </p:nvSpPr>
          <p:spPr>
            <a:xfrm>
              <a:off x="1893600" y="4184280"/>
              <a:ext cx="1178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123"/>
            <p:cNvSpPr/>
            <p:nvPr/>
          </p:nvSpPr>
          <p:spPr>
            <a:xfrm>
              <a:off x="5321880" y="4184280"/>
              <a:ext cx="15001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Rectangle 124"/>
            <p:cNvSpPr/>
            <p:nvPr/>
          </p:nvSpPr>
          <p:spPr>
            <a:xfrm>
              <a:off x="286200" y="3724920"/>
              <a:ext cx="1714320" cy="9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Times New Roman"/>
                </a:rPr>
                <a:t>Структура рабочих мест</a:t>
              </a: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 по уровню образования и квалификации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Rectangle 125"/>
            <p:cNvSpPr/>
            <p:nvPr/>
          </p:nvSpPr>
          <p:spPr>
            <a:xfrm>
              <a:off x="3072240" y="3724920"/>
              <a:ext cx="2356200" cy="91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Times New Roman"/>
                </a:rPr>
                <a:t>Прогнозная</a:t>
              </a: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 потребность в специалистах </a:t>
              </a:r>
              <a:r>
                <a:rPr b="1" lang="ru-RU" sz="1300" spc="-1" strike="noStrike">
                  <a:solidFill>
                    <a:srgbClr val="000000"/>
                  </a:solidFill>
                  <a:latin typeface="Times New Roman"/>
                </a:rPr>
                <a:t>по уровням образования и профессиям</a:t>
              </a: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, специальностям подготовки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Rectangle 126"/>
            <p:cNvSpPr/>
            <p:nvPr/>
          </p:nvSpPr>
          <p:spPr>
            <a:xfrm>
              <a:off x="3072240" y="5218920"/>
              <a:ext cx="2464200" cy="9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Структура и объем подготовки специалистов в региональной системе профессионального образования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Rectangle 127"/>
            <p:cNvSpPr/>
            <p:nvPr/>
          </p:nvSpPr>
          <p:spPr>
            <a:xfrm>
              <a:off x="5643720" y="1771560"/>
              <a:ext cx="1821240" cy="80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Times New Roman"/>
                </a:rPr>
                <a:t>Стратегия развития</a:t>
              </a: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 и инвестиционные проекты регион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Rectangle 128"/>
            <p:cNvSpPr/>
            <p:nvPr/>
          </p:nvSpPr>
          <p:spPr>
            <a:xfrm>
              <a:off x="3393360" y="2346120"/>
              <a:ext cx="1715040" cy="80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Структура и объемы </a:t>
              </a:r>
              <a:r>
                <a:rPr b="1" lang="ru-RU" sz="1300" spc="-1" strike="noStrike">
                  <a:solidFill>
                    <a:srgbClr val="000000"/>
                  </a:solidFill>
                  <a:latin typeface="Times New Roman"/>
                </a:rPr>
                <a:t>привлеченной рабочей силы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Line 129"/>
            <p:cNvSpPr/>
            <p:nvPr/>
          </p:nvSpPr>
          <p:spPr>
            <a:xfrm>
              <a:off x="5107680" y="2805480"/>
              <a:ext cx="1714320" cy="10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Line 130"/>
            <p:cNvSpPr/>
            <p:nvPr/>
          </p:nvSpPr>
          <p:spPr>
            <a:xfrm>
              <a:off x="6500520" y="2575440"/>
              <a:ext cx="535680" cy="103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Line 131"/>
            <p:cNvSpPr/>
            <p:nvPr/>
          </p:nvSpPr>
          <p:spPr>
            <a:xfrm flipV="1">
              <a:off x="4250160" y="4644360"/>
              <a:ext cx="36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Line 132"/>
            <p:cNvSpPr/>
            <p:nvPr/>
          </p:nvSpPr>
          <p:spPr>
            <a:xfrm>
              <a:off x="8321760" y="4989240"/>
              <a:ext cx="42876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Line 133"/>
            <p:cNvSpPr/>
            <p:nvPr/>
          </p:nvSpPr>
          <p:spPr>
            <a:xfrm flipH="1">
              <a:off x="7892640" y="4989240"/>
              <a:ext cx="32148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AutoShape 134"/>
            <p:cNvSpPr/>
            <p:nvPr/>
          </p:nvSpPr>
          <p:spPr>
            <a:xfrm>
              <a:off x="6714360" y="3610080"/>
              <a:ext cx="2143080" cy="1033920"/>
            </a:xfrm>
            <a:prstGeom prst="verticalScroll">
              <a:avLst>
                <a:gd name="adj" fmla="val 125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Региональный заказ на подготовку кадров   –     КЦП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Rectangle 135"/>
            <p:cNvSpPr/>
            <p:nvPr/>
          </p:nvSpPr>
          <p:spPr>
            <a:xfrm>
              <a:off x="7679160" y="4414320"/>
              <a:ext cx="1071720" cy="57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Размещение заказ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Rectangle 136"/>
            <p:cNvSpPr/>
            <p:nvPr/>
          </p:nvSpPr>
          <p:spPr>
            <a:xfrm>
              <a:off x="7571880" y="5678280"/>
              <a:ext cx="1392480" cy="69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чреждения профессионального образования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920" y="301320"/>
            <a:ext cx="742464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Специфические требования к результатам прогнозирования для возможности формирования заказа на подготовку кадров (КЦП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47640" y="2060640"/>
            <a:ext cx="71359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ональный масшта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следования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ледуется структур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бина прогнозирования должна соответствов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у обуч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профессиям и специальностя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ноз должен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овать классифик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фессий и специальност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средственно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щения к работодателя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920" y="301320"/>
            <a:ext cx="742464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Формирование контрольных цифр приема (КЦП)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Министерство образования и  науки СО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47640" y="2060640"/>
            <a:ext cx="71359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гнозы профессионально-образовательной структуры рабочих мест в экономике региона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атегии и программы социально-экономического развития Самарской обла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временные требования к уровню и качеству подготовки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оритеты социальной политики в сфере профессионального образования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сти и ресурсы системы профессионального образования региона для своевременной подготовки кадров требуемой квалифик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5280" cy="3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Методика исследования рынка труда </a:t>
            </a:r>
            <a:br>
              <a:rPr sz="24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(Самарский опыт)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827360"/>
            <a:ext cx="8432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однократно использовалась при реализации проектов в Самарском регионе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 пределами области авторским коллективом были выполнены исследовательские работы в Ханты-Мансийском автономном округе – Югра (ХМАО), республике Чувашия, Ямало-Ненецком автономном округе (ЯНАО), Сахалинской области, Красноярском кра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процессе диссеминации результатов проекта НФПК «Реформа системы образования» (методика рекомендована к распространению и применению в пилотных регионах проекта), авторы методики участвовали в качестве экспертов и научных консультантов  - в Воронежской, Новгородской, Кемеровской, Свердловской, Новосибирской, Астраханской областях, республика Карел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новные положения методики опубликованы и неоднократно обсуждались в тезисах докладов, научных статьях и рассматривались на региональных и международных научно-практических семинарах и конференц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вторы методики имеют свыше 30 научных публикаций по теме взаимодействия рынка труда и системы профессионального образования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Прямоугольник 1"/>
          <p:cNvSpPr/>
          <p:nvPr/>
        </p:nvSpPr>
        <p:spPr>
          <a:xfrm>
            <a:off x="539640" y="828720"/>
            <a:ext cx="856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азработана в 2004 году при поддержке Московского Общественного Научного Фонда за счет средств Агентства по Международному развитию США - Грант 11/1-03 «Разработка механизма взаимодействия регионального рынка труда и системы профессионального образования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2920" y="692280"/>
            <a:ext cx="72802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c7777"/>
                </a:solidFill>
                <a:latin typeface="Arial"/>
              </a:rPr>
              <a:t>ПРОЕКТИРОВАНИЕ ВЫБОРОЧНОЙ СОВОКУПНОСТИ ПРЕДПРИЯТИЙ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бъектом исследования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являются основные профессии (специальности) и должности занятых на предприятиях област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бъектом наблюдения и отбора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ступают предприятия (организации) всех форм собственности хозяйствующих субъектов региона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снова для формирования выборочной совокупности -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атистические данные, собираемые территориальным органом Федеральной службы государственной статистики по Самарской области (Самарастат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15640" y="301680"/>
            <a:ext cx="7567560" cy="17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езультаты проведения обследования предприятий</a:t>
            </a:r>
            <a:br>
              <a:rPr sz="2600"/>
            </a:br>
            <a:r>
              <a:rPr b="1" lang="ru-RU" sz="2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011 год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692000" y="2276280"/>
            <a:ext cx="6048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бследовано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1067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хозяйствующих субъект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Численность занятых на обследованных предприятиях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419 933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работников, что составляе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37,9%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занятых в экономик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едельная ошибка 0,12% для уровня значимости 0,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41672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вод профессий и должностей работающих, полученных по результатам прогноза, в соответствующие наименования профессий и специальностей профессиональной подготовки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Verdana"/>
              </a:rPr>
              <a:t>8081 наименований профессий и специально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5580000" y="5229360"/>
            <a:ext cx="3384720" cy="1295280"/>
          </a:xfrm>
          <a:prstGeom prst="flowChartAlternateProcess">
            <a:avLst/>
          </a:prstGeom>
          <a:solidFill>
            <a:srgbClr val="33cccc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ПО –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95 професс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6"/>
          <p:cNvSpPr/>
          <p:nvPr/>
        </p:nvSpPr>
        <p:spPr>
          <a:xfrm>
            <a:off x="179280" y="5157720"/>
            <a:ext cx="3384720" cy="1295640"/>
          </a:xfrm>
          <a:prstGeom prst="flowChartAlternateProcess">
            <a:avLst/>
          </a:prstGeom>
          <a:solidFill>
            <a:srgbClr val="33cc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 –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3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ециальносте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2340000" y="3645000"/>
            <a:ext cx="4392720" cy="1366560"/>
          </a:xfrm>
          <a:prstGeom prst="flowChartAlternateProcess">
            <a:avLst/>
          </a:prstGeom>
          <a:solidFill>
            <a:srgbClr val="33cccc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ПО –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01 специальност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направление подготовк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9"/>
          <p:cNvSpPr/>
          <p:nvPr/>
        </p:nvSpPr>
        <p:spPr>
          <a:xfrm rot="5400000">
            <a:off x="0" y="3681360"/>
            <a:ext cx="2448000" cy="216000"/>
          </a:xfrm>
          <a:custGeom>
            <a:avLst/>
            <a:gdLst>
              <a:gd name="textAreaLeft" fmla="*/ 382320 w 2448000"/>
              <a:gd name="textAreaRight" fmla="*/ 2142000 w 2448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AutoShape 10"/>
          <p:cNvSpPr/>
          <p:nvPr/>
        </p:nvSpPr>
        <p:spPr>
          <a:xfrm rot="5400000">
            <a:off x="6624720" y="3752640"/>
            <a:ext cx="2447640" cy="216000"/>
          </a:xfrm>
          <a:custGeom>
            <a:avLst/>
            <a:gdLst>
              <a:gd name="textAreaLeft" fmla="*/ 382320 w 2447640"/>
              <a:gd name="textAreaRight" fmla="*/ 2142000 w 24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AutoShape 11"/>
          <p:cNvSpPr/>
          <p:nvPr/>
        </p:nvSpPr>
        <p:spPr>
          <a:xfrm rot="5400000">
            <a:off x="3923280" y="2996280"/>
            <a:ext cx="1150920" cy="14292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9:25:01Z</dcterms:created>
  <dc:creator>Alasheev</dc:creator>
  <dc:description/>
  <dc:language>en-US</dc:language>
  <cp:lastModifiedBy>жолобова</cp:lastModifiedBy>
  <cp:lastPrinted>2013-08-15T11:00:18Z</cp:lastPrinted>
  <dcterms:modified xsi:type="dcterms:W3CDTF">2013-08-19T13:57:15Z</dcterms:modified>
  <cp:revision>38</cp:revision>
  <dc:subject/>
  <dc:title>Последовательность шагов по формированию регионального заказа на подготовку специалистов на основе среднесрочного прогнозирования кадровых потребностей рынка труда</dc:title>
</cp:coreProperties>
</file>