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AE1E-0B55-4023-8FC2-2C8D314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5E57-5530-40CB-96FC-0473C17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AE57-9EB7-4010-9F37-001DD83F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B326-5BF4-4E72-83AF-58587FB5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062-A0DF-4241-B865-707D78B9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038-7D42-44A3-9C93-22C69AC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DF7-A5FE-49E1-A298-9FF087AA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445-E45E-47B9-88D8-E7878E34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EC06-9FC3-4902-8804-D4B9274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FB24-4856-41D3-83F9-7094585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BE5F-2384-4588-B636-F91B1C0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4D54-89F5-4A46-B933-18316F4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9306-C7DB-4569-8563-E3B6363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2F1-0FFA-4B4C-AC0F-BEB9C45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7205-DA0A-49FA-B5D7-272113B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6B35-71D3-4402-9E11-E69C49AF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8C8-0EC1-4D16-9CBE-3648151B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A826-156F-4801-8320-BFBE43F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5E1F-7F08-4262-B886-23C182DF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1036-35C5-48C9-8C8D-74F52E8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C0C9-C327-4DB3-A7D2-AE902621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AE7A-C5C7-4438-BCD8-8A04D69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1DBD-F0CF-4B53-92B3-C7FF00B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5C9F-0FDF-4021-B4C3-DCD0C7D2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918-C488-4EF9-A3D6-3533F9185B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023F-8888-46E5-9109-65227D1C3A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773360"/>
            <a:ext cx="6075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иональной системы профессиональной ориентации населения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онцептуальные предложени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03280" y="4797360"/>
            <a:ext cx="39322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4797360"/>
            <a:ext cx="606888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тлана Ефимов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ректор  Центра профессионального образования Самарской области</a:t>
            </a:r>
            <a:br>
              <a:rPr sz="1800"/>
            </a:br>
            <a:br>
              <a:rPr sz="18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6.08.2013 г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.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f92"/>
                </a:solidFill>
                <a:latin typeface="Arial"/>
              </a:rPr>
              <a:t>СПАСИБО </a:t>
            </a:r>
            <a:br>
              <a:rPr sz="4400"/>
            </a:br>
            <a:r>
              <a:rPr b="1" lang="en-US" sz="4400" spc="-1" strike="noStrike">
                <a:solidFill>
                  <a:srgbClr val="779f92"/>
                </a:solidFill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4365720"/>
            <a:ext cx="4052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.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846) 332 20 80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www.cposo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 cpo@cposo.ru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4437000"/>
            <a:ext cx="4052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292640"/>
            <a:ext cx="4392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фессионального образова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ктуальность 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дровый голод» ре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цит невостребованных специалистов на рынк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СМИ «ложного образа» востребованных и успешных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лучайный» выбор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довлетворенность молодёжи собственным профессиональным выб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огласованность действий субъектов профори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56000" y="1052640"/>
            <a:ext cx="568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91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ыт Самарской област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профессиональной ориентаци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f92"/>
                </a:solidFill>
                <a:latin typeface="Arial"/>
              </a:rPr>
              <a:t>200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цепция региональной системы профессиональной ориентации молодёжи и взрослого населения Самарской области в современных социально-экономически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f92"/>
                </a:solidFill>
                <a:latin typeface="Arial"/>
              </a:rPr>
              <a:t>200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егиональный совет по кадровой политике при Правительстве Самарской области (Регсове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f92"/>
                </a:solidFill>
                <a:latin typeface="Arial"/>
              </a:rPr>
              <a:t>2005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ежведомственный План мероприятий по реализации Концепции на 2005-2007г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инистерство образования и науки Самарской области + Управление Федеральной государственной службы занятости по Самарской области + министерство культуры, молодежной политики и спорта Самарской об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f92"/>
                </a:solidFill>
                <a:latin typeface="Arial"/>
              </a:rPr>
              <a:t>2009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боч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при Регсо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619308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2637000"/>
            <a:ext cx="8642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f92"/>
                </a:solidFill>
                <a:latin typeface="Arial"/>
              </a:rPr>
              <a:t>ЦЕЛЬ ПРОЕК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общего информационного поля в пользу формирования позитивного отношения к производительному труду и формирование новых установок в общественном сознании: смещение акцента с модных профессий на востребов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1800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f9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79f92"/>
                </a:solidFill>
                <a:latin typeface="Arial"/>
              </a:rPr>
              <a:t>2008 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4292640"/>
          <a:ext cx="352728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292640"/>
                    <a:ext cx="3527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19280" y="476280"/>
            <a:ext cx="6192720" cy="180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2276640"/>
            <a:ext cx="446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предприятий - участников видеоконференций  «Открытый ур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924280"/>
            <a:ext cx="338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предприятий - участников «Недели труда и профориен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3213000"/>
          <a:ext cx="4535280" cy="3311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3213000"/>
                    <a:ext cx="45352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21844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ЕПЦ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гиональной системы профессиональной ориентации населения Самарской област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риод  до 202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56000" y="1052640"/>
            <a:ext cx="568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429000"/>
            <a:ext cx="8713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9f92"/>
                </a:solidFill>
                <a:latin typeface="Arial"/>
              </a:rPr>
              <a:t>Цель региональной системы профессиональной ориентации насел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ное обеспечение системы профессионального самоопределения в целях удовлетворения интересов личности, общества и потребностей социально-экономического развития регион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ая модель региональной системы профессиональной ориентации населения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развития региональной системы профессиональной ориентации населе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889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го обеспечения межведомственного взаимодействия всех субъектов региональной системы профориентационн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ламентация деятельности инфраструктурных элементов системы, в том числе внутри региональной системы  образ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о-педагогическое сопровождение профессионального самоопределения насе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е профориентационной культуры насе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9f92"/>
                </a:solidFill>
                <a:latin typeface="Arial"/>
              </a:rPr>
              <a:t>Региональная система профессиональной ориентации населения должна развиваться как целостная система межведомственн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724560" cy="2990880"/>
          </a:xfrm>
          <a:prstGeom prst="rect">
            <a:avLst/>
          </a:prstGeom>
          <a:ln w="0">
            <a:noFill/>
          </a:ln>
        </p:spPr>
      </p:pic>
      <p:pic>
        <p:nvPicPr>
          <p:cNvPr id="134" name="fancybox-img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1:27:56Z</dcterms:created>
  <dc:creator>ЦПО СО</dc:creator>
  <dc:description/>
  <dc:language>en-US</dc:language>
  <cp:lastModifiedBy>жолобова</cp:lastModifiedBy>
  <dcterms:modified xsi:type="dcterms:W3CDTF">2013-08-19T13:57:44Z</dcterms:modified>
  <cp:revision>34</cp:revision>
  <dc:subject/>
  <dc:title>Концепция 2020</dc:title>
</cp:coreProperties>
</file>